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0457B-22A1-4485-BFE3-CB0F8D9F7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ABAD5-D331-40B5-9075-4EF4144A2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CF826B-204E-4546-B3B9-82E1146903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4C2F16-BCEE-47A0-993C-D4E207BCCF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9D1CD3-62DC-457E-AF1F-4D111FFAF8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6621C4-DB3E-470C-A749-C85CF41211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B5D8C4-9217-4424-842C-2435A82218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D4BEB0-F55E-4D50-8F84-24295C9126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550A62-F0E7-4ED9-B80A-9104A38EEC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1834ED-153F-4399-B72F-CE8CA85FAC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1BAC40-A7EC-4B61-865B-EB556E5CD6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488A29-4C52-40F0-A78C-68DBD1FF55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AC59F-9166-4B90-B04D-2284EAC4B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33EC37-3B85-46BA-A97A-D8A160F08D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EC3872-8B57-42CF-848A-3C70E19865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675335-325A-405C-A2DF-A3903C4F47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F740F5-3430-423E-940A-1DBF208F38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885BF6-D2DC-43CB-9216-7C6624D2F2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6B891F-265B-4EF9-A3CD-990DF15C49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B58E85-391D-4F8A-AA11-C7395C06E5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813BA2-A7DF-4CE1-A37B-715126843F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C341B9-47E1-4E55-B11C-BA2D7A2C35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A7505B-2066-4DD1-B0A8-55350EE0D1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1F3CE-24DD-43E8-A098-A110AEC7A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373EB9-8E8C-4EF4-845E-B5C6D4CC82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1ABAA6-FC7D-476B-9663-C776C17686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CF172F-64DF-4F88-AC36-9C6749B6B0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617AEB-977A-4E1B-ADE3-F0D2C3A66E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A64D4C-0092-4E66-A66B-619993426B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F981D0-7874-478E-AED7-DABB4ECF48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000FFD-A2FE-4AF0-9C57-0712F24ED5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43BA83-B98B-4261-9DB0-F369EC2C8B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E60FB4-369D-4208-A29F-41BC6784D6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A47B17-5D67-430F-9BAF-E9A2CFFC96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DB25F-0FC2-4328-B499-A00CAA70A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6398ED-53AF-4123-A940-C98CC557C4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5790F24-1027-4DD8-B08D-8381390558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E3DFB5B-7FE1-4CC7-ADF5-E2BCBE66F9C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5368A1B-FEAA-4AF7-91D6-07FDC53764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7A7354-20B2-426D-9C0F-2FFD631511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52E26F-4B0C-476D-98B3-ACDAAB1E0C5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9D50A6-96C4-45BF-884C-0131F75826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9DEF51-A75D-4520-93D9-ABED0EA299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0DF30A-EA47-4DAB-9DE5-957FF85A88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A4E64B-72FF-4480-A528-2621C8162C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1E3F2-4A7A-4F7F-846D-E29F27068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E17AE2-DCF9-433A-982B-6969D40E67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31F7D0-2AAB-4104-8082-01C4786263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0D5CE7-B097-475D-858C-CC5F704947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6799719-50DF-4920-B003-6BEDB30F935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42BE7D9-3BA4-4BFB-A880-4DF0D545DF5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D59766B-F54D-4017-9F7D-F8920CE23E0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CF1A95-6DC9-4B5C-BC55-33DFD7966F5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0A0C62B-CA95-4549-B018-6A6C60625A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B71A19-972F-4FBA-A67B-40814E6B6F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C7EFD64-3026-4F92-B4C5-0690082B8E6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DFAAC-35F5-4579-8CC5-51DFC6847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531A7CC-2070-4E2E-BCEF-0F9BE211DB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3749C3-B165-4E89-A0AB-19A1852869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71ED9F-B750-4328-82DD-1C2AB50266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323ED3-8891-46D3-B5F9-37E8E299AA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A063F6-17FF-4E99-9431-ABBACFCA89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3079961-5654-454E-9A73-D98F414123E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CCA5B80-EC03-4A1D-84A9-3BDA316E396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E1E17FF-F897-464E-AA8F-F2D3E17890E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581B31-24C9-4577-BBD4-C2BA6192759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8D479AF-6F1F-496F-A367-C875964994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5F254-74DD-4ACB-AF39-F0CDB76F7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2309AC-108F-4498-A627-8123D16008A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8581DE-8107-4B41-A3F4-91049254DCF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E7657EE-E2C5-493F-B421-8DAE52DCDDA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391CA9-5658-456D-8E6D-4EBFEFA51D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192410B-2A97-4AA7-B73C-F8F4D48B87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241DBD-AA3B-4A65-8729-1C4C0970D2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3FA0F61-D372-4ED1-A5C0-1D81FA449E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FA9085C-C6A4-417E-8715-F692E0B1B52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53362CE-F0E6-4B6D-A562-6E1D464EB15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3"/>
          </p:nvPr>
        </p:nvSpPr>
        <p:spPr/>
        <p:txBody>
          <a:bodyPr/>
          <a:p>
            <a:fld id="{1525F595-7353-4302-A025-E05A557D49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FEE0E-826E-463B-9A35-75896B3DE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7F308003-182F-4086-B432-C2266A8121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B3BAA228-3764-4BE0-89F3-996ED76D94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38434AE8-0366-404D-B9D0-B0FF77088D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DD4DB3A1-8C28-4E39-8FAF-7FC649496F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B32A931C-9DC2-42C3-A05E-A995DA0CE1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765C4FF0-F486-4B8C-989D-D0160A8D34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3BB764A9-0B41-46AF-80FC-4D78C69F29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5E2B31E2-A805-4993-AE8D-C44BFECCE6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07565316-2739-4A91-AA3B-6162AFD191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3"/>
          </p:nvPr>
        </p:nvSpPr>
        <p:spPr/>
        <p:txBody>
          <a:bodyPr/>
          <a:p>
            <a:fld id="{C6AEC718-C666-4B5B-B0FD-7D8019E94B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531BD-F25A-439E-B930-BAA7B00BB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3"/>
          </p:nvPr>
        </p:nvSpPr>
        <p:spPr/>
        <p:txBody>
          <a:bodyPr/>
          <a:p>
            <a:fld id="{85095CCE-268B-4417-B826-29FC828635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6"/>
          </p:nvPr>
        </p:nvSpPr>
        <p:spPr/>
        <p:txBody>
          <a:bodyPr/>
          <a:p>
            <a:fld id="{1BB82DFA-CC75-485E-9934-E13F733709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6"/>
          </p:nvPr>
        </p:nvSpPr>
        <p:spPr/>
        <p:txBody>
          <a:bodyPr/>
          <a:p>
            <a:fld id="{23BF7423-A10B-4374-9FD7-657CBFEA75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6"/>
          </p:nvPr>
        </p:nvSpPr>
        <p:spPr/>
        <p:txBody>
          <a:bodyPr/>
          <a:p>
            <a:fld id="{461462DA-1DA1-480B-B77D-5231F036C6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6"/>
          </p:nvPr>
        </p:nvSpPr>
        <p:spPr/>
        <p:txBody>
          <a:bodyPr/>
          <a:p>
            <a:fld id="{3A78AB7F-7E24-45A8-A07A-3A658C4FD6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6"/>
          </p:nvPr>
        </p:nvSpPr>
        <p:spPr/>
        <p:txBody>
          <a:bodyPr/>
          <a:p>
            <a:fld id="{EB6BDAF4-E1A0-4433-B9DC-D88C90AC19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6"/>
          </p:nvPr>
        </p:nvSpPr>
        <p:spPr/>
        <p:txBody>
          <a:bodyPr/>
          <a:p>
            <a:fld id="{67A5C28D-B32B-4608-BE7D-0B3FB48239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3D2C025C-63E3-4426-B303-F3DBF8053C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0884E2F7-C10A-4900-850F-20DAF057A6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7F516685-CFA9-4AF9-A7F9-45E4FF5A2F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C4FB0-236F-4052-8CD1-4974A733A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6"/>
          </p:nvPr>
        </p:nvSpPr>
        <p:spPr/>
        <p:txBody>
          <a:bodyPr/>
          <a:p>
            <a:fld id="{35114D74-25D8-45FB-9907-C550925DE2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6"/>
          </p:nvPr>
        </p:nvSpPr>
        <p:spPr/>
        <p:txBody>
          <a:bodyPr/>
          <a:p>
            <a:fld id="{DB17F19A-4A4D-4DB8-B450-E5EA99F9F7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6"/>
          </p:nvPr>
        </p:nvSpPr>
        <p:spPr/>
        <p:txBody>
          <a:bodyPr/>
          <a:p>
            <a:fld id="{59B9AD78-F188-4B55-82D3-293222FA6C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2ECD5A7-E26F-44EC-8070-9AECB188E95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DEAA86F-B421-490B-92F0-8090DF0C83E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1EE4CAE-FFA2-4A4D-B1CC-12679465968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C04CDEF-623B-4824-B69C-638465101E4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762D714-E264-42D9-B6CB-B803A9926C7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F36AD47-4A6F-4608-8611-4B3EE7B7ADD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2379090-3A15-4181-96D3-0B80BDC9826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65467-D0C5-40D5-AA31-8670A8C08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C04D1-B811-4730-84E7-363C04FBC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034781-19DA-4CD2-8291-63394E1662A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84F48D-49CD-4261-9B28-4862A94E67D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F22F910-0FE3-4D48-885C-AFC95423360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2873066-F4C2-4369-AD90-DCC13599369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067AAE3-485F-4102-AACD-15F950BA0B3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2"/>
          </p:nvPr>
        </p:nvSpPr>
        <p:spPr/>
        <p:txBody>
          <a:bodyPr/>
          <a:p>
            <a:fld id="{82BF6807-F60A-4578-85C0-29A52D2F76D9}"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643568C2-2094-4470-B1BD-9ED4B77314C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78AF86F0-C3C2-492B-AAEF-0B12A4ACF835}"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FF134300-F7F0-43D9-80E6-FCC00C271C2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04F12AAA-A008-4A73-A988-19FAD5B06E8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2A180-AEE1-4C0E-A711-46D18B95D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E8504A62-F6FD-40B0-B0A8-528217DF4EC2}"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EBED1F70-ACBF-4A3A-97ED-D92A13D5687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0639BB6E-6F36-4748-BDF9-1CB967BEB28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C3581E75-6D68-441E-80FE-755E76B3979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E7CED0BD-9D35-432F-9D62-79989A386106}"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2"/>
          </p:nvPr>
        </p:nvSpPr>
        <p:spPr/>
        <p:txBody>
          <a:bodyPr/>
          <a:p>
            <a:fld id="{8E3A3F21-4544-4DF9-B0ED-04DDEA027D59}"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2"/>
          </p:nvPr>
        </p:nvSpPr>
        <p:spPr/>
        <p:txBody>
          <a:bodyPr/>
          <a:p>
            <a:fld id="{8566CCDC-CEEB-4165-AE45-140C89731A5E}"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6F806-3329-4250-BC6D-7FA57FA2F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CE8C2-C451-4669-B132-F81133A75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07042-DFEF-4806-A8C2-571025BB9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C74393-1DBE-4676-BCC6-6B640A3895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17ABE0-8D28-4253-8A39-CBA73F86D8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CFBBE8-6023-4EF5-8C00-6AFCEFBE49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57B60D-706D-451D-8AC6-4C0E865C2A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6528B3-2DC1-4C98-8918-0A5A171496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0D31C-4DF1-4629-BFAE-EADD6A107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EA3265-6E99-48D9-AC97-7068556C45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74483D-E696-41D9-BE68-D416A48AE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55080-6838-484E-A94B-9AF0A6CB1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D1CC2F-5CDE-4D84-89E6-8CDFC049EE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9F11EF-E3A0-4F54-B573-3213D16F06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B3BF25-B231-47D3-97A9-82EDEA5504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FAB6E1-BE25-4C82-AD44-CE8833B524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0F717F-A587-4D7B-93D2-DB7EB5FB55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FAECB0-19C8-4DA4-90B3-F0C4FD8E62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04593-1F91-43B5-BFC4-E12403AF55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594B0-F35C-4F43-AA33-1AAAAACE6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D0D5D6-9380-4D65-AB62-7917AE71F4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5788C2-9684-4F9A-9877-64E7D94360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5A4E4D-9F7D-4993-9CFB-31087D0323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79FF2-1CB2-4AE9-B486-C9AB3EB3D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C174D0-2425-464A-B256-A0A5F992E0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C7E573-0B22-45CF-ADBA-B3BA10522C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486177-1AAA-476A-9FC9-608171C3A9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F00527-3860-49A7-ABF2-CDDD4BDE99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582775-55CB-4F63-9FF0-522F001224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D2BD84-A948-4E13-A960-3C57296835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F9879-38E8-4E61-A7DE-387D448CE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2274FB-6773-4AD1-A2DA-07CD6F1FFB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E1A4B9-DCF0-456F-B185-F24FE2D3DE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B946D8-4B5C-4168-9148-D9B4019C75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18B0F3-E225-4C73-8C0E-54F06793E7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E1D432-D03B-4290-8587-8F40F2AA08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C47313-C2F0-4AED-94CD-565099148B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F06A4D-2927-499A-A4DD-73FE49F094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C7384D-B32F-4CDD-9B6F-A249A840A1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F4A8B1-6994-4FA9-91DA-E7FB370D26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C8C056-4AFF-4B52-B7B6-37702B8386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1DE76-C2A0-4059-BD8F-94C7C3DBD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70C047-F53F-4F70-8E35-73AD0725C1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061127-7553-4501-924F-49372D4A98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8EC9E8-B435-42C5-9D64-E3E17E5FED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CB5FB0-B5D4-48F9-960F-7DFE71D075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F69489-A38D-4923-A642-1F3EB97A48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5818CC-FC9C-4049-BA51-78B5D9EE16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234B62-F16E-42E1-B41B-6CF69CD88A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8A6204-356F-4B05-8E00-7B4312693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0454B4-3085-457B-8126-C8CE2A3B7F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B045A8-8FE3-4E5C-9CA7-448E3E1704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03838-8768-4113-80BD-B9746B98D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271C81-0425-4E42-8792-5661FC5658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3CF2F6-118F-470A-8580-0330EACC17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38B26C-9F2F-4359-8C8D-6E29D6E413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05B2D3-D18D-4C53-9DBB-D49620F235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B65DFC-ADDD-4D1E-BA5E-C2733CAA91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AD347A-8EB9-4B75-8839-1685D9E8A9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16EA3E-4D9A-4E2D-A6DF-44E34EA3AF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6534B4-3C14-4B65-BD58-001881F750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E0AA19-DFDC-441A-B18A-A535AA2A8C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E4724A-0AEE-4E36-A417-A9EAA353A9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67D81-59F7-43A2-94B5-F1E0F94CE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7274DF-DBB2-4B59-8789-731326354A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5B643F-3323-4F4C-B00B-1CED7F1537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42CE0F-F00D-43E4-A485-A56F9AFA2E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D8DF9C-5A7F-48D0-AF2C-F84DFE35AE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A6EDAA-5257-47B7-9938-82B3BADA77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953D11-130D-4CB1-9BAA-977BF3DC23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92992C-DB88-4697-A396-6E2FDB77A3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01F72C-EECA-444A-A7C0-645F8788F5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BE2363-AD6C-47EF-A857-A8CB3C8372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580FDC-F96B-4052-9D67-9ECAC01FDD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A1D24-BC11-47EC-A954-641793B78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609CDC-E817-47D5-B475-0332E1D4B5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42325E-533B-4091-A8B4-AAC03F074B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28A168-0FD9-48C7-940E-336E1A7DC6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50BAFE-64EF-47F8-86DD-0575C816BD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AB1FAE-7ED8-462B-BB7E-866A9EED74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697217-E451-4A11-81DE-27EA022DC8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8EFD27-4E1C-4100-BABA-05A3DB191D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F7CF95-CDFB-4163-AABE-EB149DB71C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D262D4-80C1-408C-8BD1-43EC8329C9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3DAF5B-77A2-4E67-9F4D-D6F1399407D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9F85C-F421-4994-BCB5-92FF1BE03855}"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ttangolo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0" name="Rettangolo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1" name="Rettangolo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Rettangolo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Rettangolo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Rettangolo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5" name="Rettangolo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6" name="Rettangolo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Connettore 1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Ovale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9" name="Ovale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3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32" name="PlaceHolder 3"/>
          <p:cNvSpPr>
            <a:spLocks noGrp="1"/>
          </p:cNvSpPr>
          <p:nvPr>
            <p:ph type="ftr" idx="2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3" name="PlaceHolder 4"/>
          <p:cNvSpPr>
            <a:spLocks noGrp="1"/>
          </p:cNvSpPr>
          <p:nvPr>
            <p:ph type="dt" idx="2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4" name="PlaceHolder 5"/>
          <p:cNvSpPr>
            <a:spLocks noGrp="1"/>
          </p:cNvSpPr>
          <p:nvPr>
            <p:ph type="sldNum" idx="30"/>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555A1-6728-4739-8B25-8AD714892DAF}" type="slidenum">
              <a:rPr b="0" lang="it-IT"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71"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3"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4"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5" name="Rettangolo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6"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0" name="Connettore 1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8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83" name="PlaceHolder 3"/>
          <p:cNvSpPr>
            <a:spLocks noGrp="1"/>
          </p:cNvSpPr>
          <p:nvPr>
            <p:ph type="dt" idx="31"/>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4"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2227E6-A12B-4146-9AE7-432AA80C8131}" type="slidenum">
              <a:rPr b="0" lang="it-IT"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22" name="Connettore 1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Rettangolo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4" name="Rettangolo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Rettangolo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6" name="Rettangolo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Rettangolo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8" name="Rettangolo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Connettore 1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Rettangolo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1" name="Ovale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2" name="Ovale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3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35" name="PlaceHolder 3"/>
          <p:cNvSpPr>
            <a:spLocks noGrp="1"/>
          </p:cNvSpPr>
          <p:nvPr>
            <p:ph type="dt" idx="3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35"/>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7" name="PlaceHolder 5"/>
          <p:cNvSpPr>
            <a:spLocks noGrp="1"/>
          </p:cNvSpPr>
          <p:nvPr>
            <p:ph type="sldNum" idx="36"/>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15CB07-75E3-44DA-AFB7-E6AE8AA16777}" type="slidenum">
              <a:rPr b="0" lang="it-IT"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5"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6"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7"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Rettangolo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0"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2"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8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85" name="PlaceHolder 3"/>
          <p:cNvSpPr>
            <a:spLocks noGrp="1"/>
          </p:cNvSpPr>
          <p:nvPr>
            <p:ph type="dt" idx="3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6" name="PlaceHolder 4"/>
          <p:cNvSpPr>
            <a:spLocks noGrp="1"/>
          </p:cNvSpPr>
          <p:nvPr>
            <p:ph type="ftr" idx="3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7" name="PlaceHolder 5"/>
          <p:cNvSpPr>
            <a:spLocks noGrp="1"/>
          </p:cNvSpPr>
          <p:nvPr>
            <p:ph type="sldNum" idx="39"/>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D5177-6DD3-480F-9BB4-2D7C8BA835CD}" type="slidenum">
              <a:rPr b="0" lang="it-IT"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ttangolo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5" name="Rettangolo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6" name="Rettangolo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7" name="Rettangolo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8" name="Rettangolo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9" name="Rettangolo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3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2"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3"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4" name="PlaceHolder 5"/>
          <p:cNvSpPr>
            <a:spLocks noGrp="1"/>
          </p:cNvSpPr>
          <p:nvPr>
            <p:ph type="sldNum" idx="42"/>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B8574-0914-4E8F-BC4A-34E50EF6DF30}" type="slidenum">
              <a:rPr b="0" lang="it-IT"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Rettangolo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2" name="Rettangolo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3" name="Rettangolo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4" name="Rettangolo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5" name="Rettangolo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6" name="Rettangolo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7" name="Rettangolo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8" name="Connettore 1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Ovale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0" name="Ovale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1" name="Rettangolo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8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84" name="PlaceHolder 3"/>
          <p:cNvSpPr>
            <a:spLocks noGrp="1"/>
          </p:cNvSpPr>
          <p:nvPr>
            <p:ph type="sldNum" idx="43"/>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2FDBD-A6E7-48EC-A6D9-AD1907E6F22E}" type="slidenum">
              <a:rPr b="0" lang="it-IT"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685" name="PlaceHolder 4"/>
          <p:cNvSpPr>
            <a:spLocks noGrp="1"/>
          </p:cNvSpPr>
          <p:nvPr>
            <p:ph type="dt" idx="4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6" name="PlaceHolder 5"/>
          <p:cNvSpPr>
            <a:spLocks noGrp="1"/>
          </p:cNvSpPr>
          <p:nvPr>
            <p:ph type="ftr" idx="45"/>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Connettore 1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Rettangolo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5" name="Rettangolo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6" name="Rettangolo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7" name="Rettangolo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8" name="Rettangolo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9" name="Rettangolo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0" name="Rettangolo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1" name="Ovale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2" name="Ovale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3" name="Rettangolo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3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36" name="PlaceHolder 3"/>
          <p:cNvSpPr>
            <a:spLocks noGrp="1"/>
          </p:cNvSpPr>
          <p:nvPr>
            <p:ph type="sldNum" idx="46"/>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38EA7-8045-4D81-93A9-39B0D3E4CA98}" type="slidenum">
              <a:rPr b="0" lang="it-IT"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737" name="PlaceHolder 4"/>
          <p:cNvSpPr>
            <a:spLocks noGrp="1"/>
          </p:cNvSpPr>
          <p:nvPr>
            <p:ph type="dt" idx="47"/>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38" name="PlaceHolder 5"/>
          <p:cNvSpPr>
            <a:spLocks noGrp="1"/>
          </p:cNvSpPr>
          <p:nvPr>
            <p:ph type="ftr" idx="48"/>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75"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6"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7"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8"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9" name="Rettangolo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0"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1"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3"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8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86" name="PlaceHolder 3"/>
          <p:cNvSpPr>
            <a:spLocks noGrp="1"/>
          </p:cNvSpPr>
          <p:nvPr>
            <p:ph type="dt" idx="4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8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22A43-EFC2-434E-A7AB-BAE0CC4917E4}" type="slidenum">
              <a:rPr b="0" lang="it-IT"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25" name="Rettangolo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6" name="Rettangolo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7" name="Rettangolo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8" name="Rettangolo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9" name="Rettangolo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0" name="Rettangolo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1" name="Connettore 1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Ovale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3" name="Ovale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3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36" name="PlaceHolder 3"/>
          <p:cNvSpPr>
            <a:spLocks noGrp="1"/>
          </p:cNvSpPr>
          <p:nvPr>
            <p:ph type="sldNum" idx="52"/>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7527C-153D-4B6C-AF06-0D0875AA2350}" type="slidenum">
              <a:rPr b="0" lang="it-IT"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837" name="PlaceHolder 4"/>
          <p:cNvSpPr>
            <a:spLocks noGrp="1"/>
          </p:cNvSpPr>
          <p:nvPr>
            <p:ph type="dt" idx="5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38" name="PlaceHolder 5"/>
          <p:cNvSpPr>
            <a:spLocks noGrp="1"/>
          </p:cNvSpPr>
          <p:nvPr>
            <p:ph type="ftr" idx="5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ttangolo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Rettangolo arrotondato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5"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D049D-D51D-4D4E-97DB-86A703802B26}" type="slidenum">
              <a:rPr b="0" lang="it-IT"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Rettangolo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PlaceHolder 1"/>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 name="PlaceHolder 2"/>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PlaceHolder 3"/>
          <p:cNvSpPr>
            <a:spLocks noGrp="1"/>
          </p:cNvSpPr>
          <p:nvPr>
            <p:ph type="sldNum" idx="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657A7-4D1D-49FB-9A4A-DC32D651284B}" type="slidenum">
              <a:rPr b="0" lang="it-IT"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96"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7"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Rettangolo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Rettangolo arrotondato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Rettangolo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Rettangolo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Rettangolo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1"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2"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B1DEF-659A-403C-B5C6-A15E0A80B985}" type="slidenum">
              <a:rPr b="0" lang="it-IT"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0" name="Rettangolo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81" name="Rettangolo arrotondato 10"/>
          <p:cNvGrpSpPr/>
          <p:nvPr/>
        </p:nvGrpSpPr>
        <p:grpSpPr>
          <a:xfrm>
            <a:off x="60480" y="60480"/>
            <a:ext cx="9028080" cy="6711840"/>
            <a:chOff x="60480" y="60480"/>
            <a:chExt cx="9028080" cy="6711840"/>
          </a:xfrm>
        </p:grpSpPr>
        <p:pic>
          <p:nvPicPr>
            <p:cNvPr id="182" name="Rettangolo arrotondato 10" descr=""/>
            <p:cNvPicPr/>
            <p:nvPr/>
          </p:nvPicPr>
          <p:blipFill>
            <a:blip r:embed="rId3"/>
            <a:stretch/>
          </p:blipFill>
          <p:spPr>
            <a:xfrm>
              <a:off x="60480" y="60480"/>
              <a:ext cx="9028080" cy="6711840"/>
            </a:xfrm>
            <a:prstGeom prst="rect">
              <a:avLst/>
            </a:prstGeom>
            <a:ln w="0">
              <a:noFill/>
            </a:ln>
          </p:spPr>
        </p:pic>
        <p:sp>
          <p:nvSpPr>
            <p:cNvPr id="18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4" name="Rettangolo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Rettangolo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Rettangolo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4DA1A5-5F1D-4AA1-847A-2E6C74CC4A4C}" type="slidenum">
              <a:rPr b="0" lang="it-IT"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ttangolo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Rettangolo arrotondato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Rettangolo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Rettangolo arrotondato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4"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235"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72D101-267F-4B06-8237-11763BFFC8FD}" type="slidenum">
              <a:rPr b="0" lang="it-IT"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ttangolo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Rettangolo arrotondato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Rettangolo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Rettangolo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Rettangolo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7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80"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281" name="PlaceHolder 4"/>
          <p:cNvSpPr>
            <a:spLocks noGrp="1"/>
          </p:cNvSpPr>
          <p:nvPr>
            <p:ph type="ftr" idx="20"/>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PlaceHolder 5"/>
          <p:cNvSpPr>
            <a:spLocks noGrp="1"/>
          </p:cNvSpPr>
          <p:nvPr>
            <p:ph type="sldNum" idx="21"/>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3BF25-4FF5-4DBB-8F14-39CD15146967}" type="slidenum">
              <a:rPr b="0" lang="it-IT"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19" name="Rettangolo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Rettangolo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Rettangolo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Rettangolo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Rettangolo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Connettore 1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Rettangolo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Ovale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Ovale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2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30"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PlaceHolder 5"/>
          <p:cNvSpPr>
            <a:spLocks noGrp="1"/>
          </p:cNvSpPr>
          <p:nvPr>
            <p:ph type="sldNum" idx="24"/>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83D48-9C97-45F6-9E6E-5086BF9C7985}" type="slidenum">
              <a:rPr b="0" lang="it-IT"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69"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ttangolo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Rettangolo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Rettangolo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Connettore 1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Oval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7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80" name="PlaceHolder 3"/>
          <p:cNvSpPr>
            <a:spLocks noGrp="1"/>
          </p:cNvSpPr>
          <p:nvPr>
            <p:ph type="dt" idx="2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81" name="PlaceHolder 4"/>
          <p:cNvSpPr>
            <a:spLocks noGrp="1"/>
          </p:cNvSpPr>
          <p:nvPr>
            <p:ph type="ftr" idx="2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5"/>
          <p:cNvSpPr>
            <a:spLocks noGrp="1"/>
          </p:cNvSpPr>
          <p:nvPr>
            <p:ph type="sldNum" idx="27"/>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00A62-A7CA-405E-8EFF-91701A222F4C}" type="slidenum">
              <a:rPr b="0" lang="it-IT"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file:///OB_1_curricolo.pdf"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OB_2_stranieri.pdf"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file:///OB_3_bes.pdf" TargetMode="External"/><Relationship Id="rId2" Type="http://schemas.openxmlformats.org/officeDocument/2006/relationships/hyperlink" Target="file:///Modello_Piano_Annuale_Inclusione2.pdf"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file:///OB_4_innovazione.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Franklin Gothic Book"/>
              </a:rPr>
              <a:t>Rapporto di autovalutazione</a:t>
            </a:r>
            <a:endParaRPr b="0" lang="en-US" sz="4000" spc="-1" strike="noStrike">
              <a:solidFill>
                <a:srgbClr val="696464"/>
              </a:solidFill>
              <a:latin typeface="Franklin Gothic Book"/>
            </a:endParaRPr>
          </a:p>
        </p:txBody>
      </p:sp>
      <p:pic>
        <p:nvPicPr>
          <p:cNvPr id="876" name="Picture 2" descr=""/>
          <p:cNvPicPr/>
          <p:nvPr/>
        </p:nvPicPr>
        <p:blipFill>
          <a:blip r:embed="rId1"/>
          <a:stretch/>
        </p:blipFill>
        <p:spPr>
          <a:xfrm>
            <a:off x="801720" y="4419720"/>
            <a:ext cx="7715160" cy="1584360"/>
          </a:xfrm>
          <a:prstGeom prst="rect">
            <a:avLst/>
          </a:prstGeom>
          <a:ln w="0">
            <a:noFill/>
          </a:ln>
        </p:spPr>
      </p:pic>
      <p:pic>
        <p:nvPicPr>
          <p:cNvPr id="877" name="Picture 3" descr=""/>
          <p:cNvPicPr/>
          <p:nvPr/>
        </p:nvPicPr>
        <p:blipFill>
          <a:blip r:embed="rId2"/>
          <a:stretch/>
        </p:blipFill>
        <p:spPr>
          <a:xfrm>
            <a:off x="6256440" y="3144960"/>
            <a:ext cx="2187360" cy="877680"/>
          </a:xfrm>
          <a:prstGeom prst="rect">
            <a:avLst/>
          </a:prstGeom>
          <a:ln w="0">
            <a:noFill/>
          </a:ln>
        </p:spPr>
      </p:pic>
      <p:sp>
        <p:nvSpPr>
          <p:cNvPr id="878" name="Rettangolo 7"/>
          <p:cNvSpPr/>
          <p:nvPr/>
        </p:nvSpPr>
        <p:spPr>
          <a:xfrm>
            <a:off x="231840" y="196920"/>
            <a:ext cx="874872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Arial Black"/>
                <a:ea typeface="Times New Roman"/>
              </a:rPr>
              <a:t> </a:t>
            </a:r>
            <a:r>
              <a:rPr b="0" lang="it-IT" sz="3200" spc="-1" strike="noStrike">
                <a:solidFill>
                  <a:srgbClr val="000000"/>
                </a:solidFill>
                <a:latin typeface="Arial Black"/>
                <a:ea typeface="Times New Roman"/>
              </a:rPr>
              <a:t>Istituto Comprensivo “N. Fiorentino”</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entury"/>
                <a:ea typeface="Times New Roman"/>
              </a:rPr>
              <a:t>di  Scuola  dell’ Infanzia,  Primaria  e  Secondaria  di  I grado</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Century"/>
                <a:ea typeface="Times New Roman"/>
              </a:rPr>
              <a:t>Viale dei Caduti –75023  Montalbano Jonico (Mt)</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Century"/>
                <a:ea typeface="Times New Roman"/>
              </a:rPr>
              <a:t>Tel. e Fax 0835/691019       </a:t>
            </a:r>
            <a:r>
              <a:rPr b="1" lang="it-IT" sz="1400" spc="-1" strike="noStrike">
                <a:solidFill>
                  <a:srgbClr val="000000"/>
                </a:solidFill>
                <a:latin typeface="Times New Roman"/>
                <a:ea typeface="Times New Roman"/>
              </a:rPr>
              <a:t> E-mail mtic82000g@istruzione.it</a:t>
            </a:r>
            <a:endParaRPr b="0" lang="en-US" sz="1400" spc="-1" strike="noStrike">
              <a:solidFill>
                <a:srgbClr val="000000"/>
              </a:solidFill>
              <a:latin typeface="Arial"/>
            </a:endParaRPr>
          </a:p>
        </p:txBody>
      </p:sp>
      <p:grpSp>
        <p:nvGrpSpPr>
          <p:cNvPr id="879" name="Rettangolo 8"/>
          <p:cNvGrpSpPr/>
          <p:nvPr/>
        </p:nvGrpSpPr>
        <p:grpSpPr>
          <a:xfrm>
            <a:off x="859680" y="3425760"/>
            <a:ext cx="1584360" cy="397080"/>
            <a:chOff x="859680" y="3425760"/>
            <a:chExt cx="1584360" cy="397080"/>
          </a:xfrm>
        </p:grpSpPr>
        <p:pic>
          <p:nvPicPr>
            <p:cNvPr id="880" name="Rettangolo 8" descr=""/>
            <p:cNvPicPr/>
            <p:nvPr/>
          </p:nvPicPr>
          <p:blipFill>
            <a:blip r:embed="rId3"/>
            <a:stretch/>
          </p:blipFill>
          <p:spPr>
            <a:xfrm>
              <a:off x="920880" y="3425760"/>
              <a:ext cx="1461960" cy="397080"/>
            </a:xfrm>
            <a:prstGeom prst="rect">
              <a:avLst/>
            </a:prstGeom>
            <a:ln w="0">
              <a:noFill/>
            </a:ln>
          </p:spPr>
        </p:pic>
        <p:sp>
          <p:nvSpPr>
            <p:cNvPr id="881" name=""/>
            <p:cNvSpPr/>
            <p:nvPr/>
          </p:nvSpPr>
          <p:spPr>
            <a:xfrm>
              <a:off x="859680" y="3438360"/>
              <a:ext cx="158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Perpetua"/>
                </a:rPr>
                <a:t>MTIC82000G</a:t>
              </a:r>
              <a:endParaRPr b="0" lang="en-US" sz="1800" spc="-1" strike="noStrike">
                <a:solidFill>
                  <a:srgbClr val="000000"/>
                </a:solidFill>
                <a:latin typeface="Arial"/>
              </a:endParaRPr>
            </a:p>
          </p:txBody>
        </p:sp>
      </p:gr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txBox="1"/>
          <p:nvPr/>
        </p:nvSpPr>
        <p:spPr>
          <a:xfrm>
            <a:off x="414360" y="1572840"/>
            <a:ext cx="8229600" cy="455940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Dall’ a.s. 2009/10, il piano provinciale di dimensionamento ha raggruppato i tre ordini di scuola presenti sul territorio: Scuola dell’Infanzia, Primaria e  Secondaria di I gr. dislocate su tre edifici (5 sedi). L'istituto comprende una bassa percentuale di aule adibite a laboratori; 2 palestre; 2 biblioteche (con un tot. di 2000 volumi) con sala di consultazione,servizio prestito e docente referente. L'istituto non possiede un certificato di agibilità e prevenzione incendi, in alcuni edifici vi sono scale di sicurezza e rampe per il superamento di barriere architettoniche, in tutti gli edifici ci sono porte antipanico. Sufficientemente adeguate le risorse tecnologiche. Risorse finanziarie assegnate dallo Stato: 2,3% funzionamento generale, 0,3% spese di pulizia; 90,1%  stipendi personale di ruolo e 5,1% per il personale supplente, 0,9% retribuzione accessoria; famiglie: 0,6% gite e mensa, o,7% destinati alla scuola; Comune: 0,1% funzionamento generale.</a:t>
            </a:r>
            <a:endParaRPr b="0" lang="en-US" sz="2000" spc="-1" strike="noStrike">
              <a:solidFill>
                <a:srgbClr val="000000"/>
              </a:solidFill>
              <a:latin typeface="Georgia"/>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04" name="Rettangolo 4"/>
          <p:cNvSpPr/>
          <p:nvPr/>
        </p:nvSpPr>
        <p:spPr>
          <a:xfrm>
            <a:off x="504360" y="182520"/>
            <a:ext cx="472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CONTESTO E RISORSE</a:t>
            </a:r>
            <a:endParaRPr b="0" lang="en-US" sz="3200" spc="-1" strike="noStrike">
              <a:solidFill>
                <a:srgbClr val="000000"/>
              </a:solidFill>
              <a:latin typeface="Arial"/>
            </a:endParaRPr>
          </a:p>
        </p:txBody>
      </p:sp>
      <p:sp>
        <p:nvSpPr>
          <p:cNvPr id="905" name="CasellaDiTesto 8"/>
          <p:cNvSpPr/>
          <p:nvPr/>
        </p:nvSpPr>
        <p:spPr>
          <a:xfrm>
            <a:off x="231840" y="682560"/>
            <a:ext cx="84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Georgia"/>
              </a:rPr>
              <a:t>Risorse economiche e materiali</a:t>
            </a:r>
            <a:endParaRPr b="0" lang="en-US" sz="18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291960" y="1572840"/>
            <a:ext cx="8229600" cy="4559400"/>
          </a:xfrm>
          <a:prstGeom prst="rect">
            <a:avLst/>
          </a:prstGeom>
          <a:noFill/>
          <a:ln w="0">
            <a:noFill/>
          </a:ln>
        </p:spPr>
        <p:txBody>
          <a:bodyPr anchor="t">
            <a:normAutofit fontScale="97000"/>
          </a:bodyPr>
          <a:p>
            <a:pPr marL="264600" indent="-264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Personale docente con contratto a tempo indeterminato: Infanzia n°15 di cui 1 di sostegno,  titoli posseduti inferiori alla laurea, nessuna certificazione linguistica ed informatica; Primaria  n°23 di cui 4 di sostegno, il 4,3% possiede una laurea, il 13%, possiede una certificazione informatica, il 4,3% possiede una certificazione in lingua Inglese; Secondaria di I gr. n°25 di cui 5 di sostegno, il 13% in possesso di seconda laurea, il 21,7% possiede una certificazione informatica. E' evidente una lieve instabilità dei docenti a tempo indeterminato nella scuola secondaria, ciò ha determinato una necessaria riorganizzazione interna sia di tipo relazionale,sia didattica. Da evidenziare un certo invecchiamento del corpo docenti, con un'età mediana superiore a 50 anni, nettamente superiore alla media nazionale. Il tasso di assenteismo del personale docente è superiore al valore medio nazionale. Dopo tre anni consecutivi di Reggenza, l'istituto è affidato ad un Dirigente di nuova nomina.</a:t>
            </a:r>
            <a:endParaRPr b="0" lang="en-US" sz="2000" spc="-1" strike="noStrike">
              <a:solidFill>
                <a:srgbClr val="000000"/>
              </a:solidFill>
              <a:latin typeface="Georgia"/>
            </a:endParaRPr>
          </a:p>
          <a:p>
            <a:pPr marL="264600" indent="-26460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07" name="Rettangolo 4"/>
          <p:cNvSpPr/>
          <p:nvPr/>
        </p:nvSpPr>
        <p:spPr>
          <a:xfrm>
            <a:off x="504360" y="182520"/>
            <a:ext cx="472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CONTESTO E RISORSE</a:t>
            </a:r>
            <a:endParaRPr b="0" lang="en-US" sz="3200" spc="-1" strike="noStrike">
              <a:solidFill>
                <a:srgbClr val="000000"/>
              </a:solidFill>
              <a:latin typeface="Arial"/>
            </a:endParaRPr>
          </a:p>
        </p:txBody>
      </p:sp>
      <p:sp>
        <p:nvSpPr>
          <p:cNvPr id="908" name="CasellaDiTesto 8"/>
          <p:cNvSpPr/>
          <p:nvPr/>
        </p:nvSpPr>
        <p:spPr>
          <a:xfrm>
            <a:off x="231840" y="682560"/>
            <a:ext cx="84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Georgia"/>
              </a:rPr>
              <a:t>Risorse professionali</a:t>
            </a:r>
            <a:endParaRPr b="0" lang="en-US" sz="18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291960" y="1572840"/>
            <a:ext cx="8229600" cy="4559400"/>
          </a:xfrm>
          <a:prstGeom prst="rect">
            <a:avLst/>
          </a:prstGeom>
          <a:noFill/>
          <a:ln w="0">
            <a:noFill/>
          </a:ln>
        </p:spPr>
        <p:txBody>
          <a:bodyPr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La proposta educativa e didattica, in relazione alle nuove Indicazioni Nazionali, non è sufficientemente coerente e condivisa,  le criticità rilevate sono causa di una non ancora maturazione del lavoro d’integrazione e sinergia tra segmenti scolastici. Lo scarso coordinamento tra primaria e secondaria non favorisce né il confronto né lo scambio di esperienze e risorse su problematiche che impegnano verticalmente la scuola. Manca una proposta educativa e culturale che sia la più coerente possibile in tutte le fasi scolastiche,nella pianificazione d'inizio anno si predilige la progettazione disciplinare, senza dare il giusto rilievo alle problematiche comuni che riguardano gli aspetti metodologici e trasversali dell’insegnamento favorendo l'acquisizione di abilità non funzionali alle competenze realmente richieste. Si evidenzia frammentarietà e scarsa continuità progettuale, non esistono attività di potenziamento.</a:t>
            </a: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10" name="Rettangolo 4"/>
          <p:cNvSpPr/>
          <p:nvPr/>
        </p:nvSpPr>
        <p:spPr>
          <a:xfrm>
            <a:off x="410760" y="182520"/>
            <a:ext cx="222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PROCESSI</a:t>
            </a:r>
            <a:endParaRPr b="0" lang="en-US" sz="3200" spc="-1" strike="noStrike">
              <a:solidFill>
                <a:srgbClr val="000000"/>
              </a:solidFill>
              <a:latin typeface="Arial"/>
            </a:endParaRPr>
          </a:p>
        </p:txBody>
      </p:sp>
      <p:sp>
        <p:nvSpPr>
          <p:cNvPr id="911" name="CasellaDiTesto 8"/>
          <p:cNvSpPr/>
          <p:nvPr/>
        </p:nvSpPr>
        <p:spPr>
          <a:xfrm>
            <a:off x="231840" y="682560"/>
            <a:ext cx="845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235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23543"/>
                </a:solidFill>
                <a:latin typeface="Georgia"/>
              </a:rPr>
              <a:t>Selezione dei saperi, scelte curricolari e offerta formativa -  Livello 2:accettabile</a:t>
            </a:r>
            <a:endParaRPr b="0" lang="en-US" sz="18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291960" y="1572840"/>
            <a:ext cx="8229600" cy="4559400"/>
          </a:xfrm>
          <a:prstGeom prst="rect">
            <a:avLst/>
          </a:prstGeom>
          <a:noFill/>
          <a:ln w="0">
            <a:noFill/>
          </a:ln>
        </p:spPr>
        <p:txBody>
          <a:bodyPr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La scuola ha una struttura organizzativa sufficiente; per la scuola Primaria la progettazione per U.D. avviene tra docenti di classi parallele. L'organizzazione flessibile di spazi e tempi è prevista solo in occasione di attività extracurriculari. E' in atto il passaggio dalla Progettazione per Progetti(Infanzia), Unità Didattiche(Primaria) e Unità di Apprendimento(Secondaria di I gr.) alla Progettazione per Competenze. La progettazione per competenze è in progress in quanto i docenti trovano difficoltà a declinare i curricula disciplinari secondo le Indicazioni Nazionali. Si stanno progettando nuove griglie di valutazione più coerenti agli standard europei.  Scarseggiano specifiche attività e strategie didattiche  (es. creazione di gruppi di livello, predisposizione di compiti differenziati, ecc.).  Le varie difficoltà non sono state superate anche a causa dell'avvicendamento dei Dirigenti Scolastici.</a:t>
            </a: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13" name="Rettangolo 4"/>
          <p:cNvSpPr/>
          <p:nvPr/>
        </p:nvSpPr>
        <p:spPr>
          <a:xfrm>
            <a:off x="410760" y="182520"/>
            <a:ext cx="222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PROCESSI</a:t>
            </a:r>
            <a:endParaRPr b="0" lang="en-US" sz="3200" spc="-1" strike="noStrike">
              <a:solidFill>
                <a:srgbClr val="000000"/>
              </a:solidFill>
              <a:latin typeface="Arial"/>
            </a:endParaRPr>
          </a:p>
        </p:txBody>
      </p:sp>
      <p:sp>
        <p:nvSpPr>
          <p:cNvPr id="914" name="CasellaDiTesto 8"/>
          <p:cNvSpPr/>
          <p:nvPr/>
        </p:nvSpPr>
        <p:spPr>
          <a:xfrm>
            <a:off x="231840" y="682560"/>
            <a:ext cx="845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235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23543"/>
                </a:solidFill>
                <a:latin typeface="Georgia"/>
              </a:rPr>
              <a:t>Progettazione della didattica e valutazione degli studenti-  Livello 1: inadeguato</a:t>
            </a:r>
            <a:endParaRPr b="0" lang="en-US" sz="18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txBox="1"/>
          <p:nvPr/>
        </p:nvSpPr>
        <p:spPr>
          <a:xfrm>
            <a:off x="457200" y="2193480"/>
            <a:ext cx="8229600" cy="3048120"/>
          </a:xfrm>
          <a:prstGeom prst="rect">
            <a:avLst/>
          </a:prstGeom>
          <a:noFill/>
          <a:ln w="0">
            <a:noFill/>
          </a:ln>
        </p:spPr>
        <p:txBody>
          <a:bodyPr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I risultati dei questionari somministrati agli alunni dell'istituto rivelano un alto grado di positività nei rapporti con i compagni di classe e con i docenti evidenziando un clima scolastico alquanto sereno. Tale positività nelle relazioni tra pari diminuisce con l'aumentare dell'età degli alunni; nelle classi terze della scuola secondaria di I grado si manifesta un aumento della conflittualità.</a:t>
            </a: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16" name="Rettangolo 4"/>
          <p:cNvSpPr/>
          <p:nvPr/>
        </p:nvSpPr>
        <p:spPr>
          <a:xfrm>
            <a:off x="410760" y="182520"/>
            <a:ext cx="222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PROCESSI</a:t>
            </a:r>
            <a:endParaRPr b="0" lang="en-US" sz="3200" spc="-1" strike="noStrike">
              <a:solidFill>
                <a:srgbClr val="000000"/>
              </a:solidFill>
              <a:latin typeface="Arial"/>
            </a:endParaRPr>
          </a:p>
        </p:txBody>
      </p:sp>
      <p:sp>
        <p:nvSpPr>
          <p:cNvPr id="917" name="CasellaDiTesto 8"/>
          <p:cNvSpPr/>
          <p:nvPr/>
        </p:nvSpPr>
        <p:spPr>
          <a:xfrm>
            <a:off x="231840" y="682560"/>
            <a:ext cx="84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235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23543"/>
                </a:solidFill>
                <a:latin typeface="Georgia"/>
              </a:rPr>
              <a:t>Sviluppo della relazione educativa tra pari – Livello 3: buono</a:t>
            </a:r>
            <a:endParaRPr b="0" lang="en-US" sz="18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457200" y="1877760"/>
            <a:ext cx="8229600" cy="3925800"/>
          </a:xfrm>
          <a:prstGeom prst="rect">
            <a:avLst/>
          </a:prstGeom>
          <a:noFill/>
          <a:ln w="0">
            <a:noFill/>
          </a:ln>
        </p:spPr>
        <p:txBody>
          <a:bodyPr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La scuola ha svolto alcuni adempimenti formali previsti dalla normativa, ma insufficienti a garantire l'inclusione degli studenti con difficoltà. I docenti di classe, il docente di sostegno e gli operatori ASL collaborano e predispongono un Piano Educativo Individualizzato (PEI) sulla base delle indicazioni fornite dalla diagnosi funzionale e dal profilo dinamico funzionale. Per consentire agli alunni con DSA di raggiungere gli obiettivi di apprendimento, andrebbero riarticolate le modalità didattiche e le strategie di insegnamento sulla base dei bisogni educativi specifici. Si evidenzia  una scarsa attenzione rivolta agli studenti con cittadinanza non italiana; mancano protocolli di accoglienza sia per gli alunni stranieri che per i diversamente abili, per i DSA e per gli alunni con Bisogni Educativi Specifici.</a:t>
            </a: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19" name="Rettangolo 4"/>
          <p:cNvSpPr/>
          <p:nvPr/>
        </p:nvSpPr>
        <p:spPr>
          <a:xfrm>
            <a:off x="410760" y="182520"/>
            <a:ext cx="222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PROCESSI</a:t>
            </a:r>
            <a:endParaRPr b="0" lang="en-US" sz="3200" spc="-1" strike="noStrike">
              <a:solidFill>
                <a:srgbClr val="000000"/>
              </a:solidFill>
              <a:latin typeface="Arial"/>
            </a:endParaRPr>
          </a:p>
        </p:txBody>
      </p:sp>
      <p:sp>
        <p:nvSpPr>
          <p:cNvPr id="920" name="CasellaDiTesto 8"/>
          <p:cNvSpPr/>
          <p:nvPr/>
        </p:nvSpPr>
        <p:spPr>
          <a:xfrm>
            <a:off x="231840" y="682560"/>
            <a:ext cx="84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235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23543"/>
                </a:solidFill>
                <a:latin typeface="Georgia"/>
              </a:rPr>
              <a:t>Inclusione, integrazione, differenziazione– Livello 1: inadeguato</a:t>
            </a:r>
            <a:endParaRPr b="0" lang="en-US" sz="18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txBox="1"/>
          <p:nvPr/>
        </p:nvSpPr>
        <p:spPr>
          <a:xfrm>
            <a:off x="457200" y="1878120"/>
            <a:ext cx="8229600" cy="4241520"/>
          </a:xfrm>
          <a:prstGeom prst="rect">
            <a:avLst/>
          </a:prstGeom>
          <a:noFill/>
          <a:ln w="0">
            <a:noFill/>
          </a:ln>
        </p:spPr>
        <p:txBody>
          <a:bodyPr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La continuità del processo educativo, garanzia di unitarietà di intenti e percorsi tra i vari ordini di scuola,  si esplica essenzialmente attraverso la trasmissione dei dati e delle informazioni dell'alunno a conclusione delle classi terminali e l'individuazione di criteri comuni di valutazione. All'inizio dell'anno scolastico si predispongono incontri tra i docenti dei vari ordini di scuola. L'orientamento costituisce un'azione fondamentale del processo educativo e formativo e persegue l'obiettivo di favorire la conoscenza in ogni alunno delle proprie potenzialità per renderlo autonomo nelle scelte scolastiche e di vita. L'attività orientante è implicita in ogni disciplina, ma è anche predisposto un piano di  azioni orientative-formative ed informative nell'ambito dell'attività didattica e con le Scuole Secondarie di secondo grado. Mancano attività laboratoriali interscolastiche.</a:t>
            </a: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22" name="Rettangolo 4"/>
          <p:cNvSpPr/>
          <p:nvPr/>
        </p:nvSpPr>
        <p:spPr>
          <a:xfrm>
            <a:off x="410760" y="182520"/>
            <a:ext cx="222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PROCESSI</a:t>
            </a:r>
            <a:endParaRPr b="0" lang="en-US" sz="3200" spc="-1" strike="noStrike">
              <a:solidFill>
                <a:srgbClr val="000000"/>
              </a:solidFill>
              <a:latin typeface="Arial"/>
            </a:endParaRPr>
          </a:p>
        </p:txBody>
      </p:sp>
      <p:sp>
        <p:nvSpPr>
          <p:cNvPr id="923" name="CasellaDiTesto 8"/>
          <p:cNvSpPr/>
          <p:nvPr/>
        </p:nvSpPr>
        <p:spPr>
          <a:xfrm>
            <a:off x="231840" y="682560"/>
            <a:ext cx="84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235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23543"/>
                </a:solidFill>
                <a:latin typeface="Georgia"/>
              </a:rPr>
              <a:t>Continuità e orientamento– Livello 2: accettabile</a:t>
            </a:r>
            <a:endParaRPr b="0" lang="en-US" sz="18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457200" y="1878120"/>
            <a:ext cx="8229600" cy="42415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Le decisioni su alcune questioni rilevanti vengono prese prevalentemente in modo congiunto tra il dirigente scolastico e lo Staff di direzione.</a:t>
            </a:r>
            <a:endParaRPr b="0" lang="en-US" sz="2000" spc="-1" strike="noStrike">
              <a:solidFill>
                <a:srgbClr val="000000"/>
              </a:solidFill>
              <a:latin typeface="Georg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La prevalenza delle attività a cui il dirigente scolastico dichiara di dedicarsi settimanalmente si concentra più sullo sviluppo del curricolo e della didattica e sui rapporti con gli studenti, nonchè sul coordinamento e valorizzazione del personale, che sui compiti amministrativi. Buono lo stile di direzione, la leadership e la modalità di gestione, fondata sull'ascolto, sul dialogo e la condivisione, da parte del DS e dei suoi collaboratori.</a:t>
            </a:r>
            <a:endParaRPr b="0" lang="en-US" sz="2000" spc="-1" strike="noStrike">
              <a:solidFill>
                <a:srgbClr val="000000"/>
              </a:solidFill>
              <a:latin typeface="Georg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25" name="Rettangolo 4"/>
          <p:cNvSpPr/>
          <p:nvPr/>
        </p:nvSpPr>
        <p:spPr>
          <a:xfrm>
            <a:off x="410760" y="182520"/>
            <a:ext cx="222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PROCESSI</a:t>
            </a:r>
            <a:endParaRPr b="0" lang="en-US" sz="3200" spc="-1" strike="noStrike">
              <a:solidFill>
                <a:srgbClr val="000000"/>
              </a:solidFill>
              <a:latin typeface="Arial"/>
            </a:endParaRPr>
          </a:p>
        </p:txBody>
      </p:sp>
      <p:sp>
        <p:nvSpPr>
          <p:cNvPr id="926" name="CasellaDiTesto 8"/>
          <p:cNvSpPr/>
          <p:nvPr/>
        </p:nvSpPr>
        <p:spPr>
          <a:xfrm>
            <a:off x="231840" y="682560"/>
            <a:ext cx="845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235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23543"/>
                </a:solidFill>
                <a:latin typeface="Georgia"/>
              </a:rPr>
              <a:t>Identità strategica e capacità di direzione della scuola (leadership)–</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23543"/>
                </a:solidFill>
                <a:latin typeface="Georgia"/>
              </a:rPr>
              <a:t>Livello 3: buono</a:t>
            </a:r>
            <a:endParaRPr b="0" lang="en-US" sz="18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txBox="1"/>
          <p:nvPr/>
        </p:nvSpPr>
        <p:spPr>
          <a:xfrm>
            <a:off x="457200" y="1878120"/>
            <a:ext cx="8229600" cy="238896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Le risorse di cui dispone la scuola per l’arricchimento dell’offerta formativa sono costituite dal fondo di istituto (FIS). Le scelte su come suddividere il fondo, individuate dal collegio dei docenti, sono regolate dalla contrattazione d’istituto, che prevede una suddivisone  mirata ed un'efficace distribuzione dei compiti ed una valorizzazione delle competenze presenti.</a:t>
            </a: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28" name="Rettangolo 4"/>
          <p:cNvSpPr/>
          <p:nvPr/>
        </p:nvSpPr>
        <p:spPr>
          <a:xfrm>
            <a:off x="410760" y="182520"/>
            <a:ext cx="222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PROCESSI</a:t>
            </a:r>
            <a:endParaRPr b="0" lang="en-US" sz="3200" spc="-1" strike="noStrike">
              <a:solidFill>
                <a:srgbClr val="000000"/>
              </a:solidFill>
              <a:latin typeface="Arial"/>
            </a:endParaRPr>
          </a:p>
        </p:txBody>
      </p:sp>
      <p:sp>
        <p:nvSpPr>
          <p:cNvPr id="929" name="CasellaDiTesto 8"/>
          <p:cNvSpPr/>
          <p:nvPr/>
        </p:nvSpPr>
        <p:spPr>
          <a:xfrm>
            <a:off x="231840" y="682560"/>
            <a:ext cx="84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235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23543"/>
                </a:solidFill>
                <a:latin typeface="Georgia"/>
              </a:rPr>
              <a:t>Gestione strategica delle risorse - Livello 2: accettabile</a:t>
            </a:r>
            <a:endParaRPr b="0" lang="en-US" sz="18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txBox="1"/>
          <p:nvPr/>
        </p:nvSpPr>
        <p:spPr>
          <a:xfrm>
            <a:off x="457200" y="1877760"/>
            <a:ext cx="8229600" cy="3376440"/>
          </a:xfrm>
          <a:prstGeom prst="rect">
            <a:avLst/>
          </a:prstGeom>
          <a:noFill/>
          <a:ln w="0">
            <a:noFill/>
          </a:ln>
        </p:spPr>
        <p:txBody>
          <a:bodyPr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La scuola si prende cura, valorizza e potenzia lo sviluppo professionale di ciascuno; si rileva scarsa volontà dei docenti a partecipare ai gruppi di lavoro; da potenziare sicuramente la formazione del personale docente. Nel corrente anno i Gruppi di Lavoro, le Funzioni Strumentali, la dirigenza hanno programmato le seguenti attività formative: - Lavorare per competenze; - Progettazione curriculare d'Istituto; - Sicurezza negli ambienti di lavoro; - Misure compensative e percorsi didattici personalizzati per alunni DSA;  - Progettazione di percorsi educativi personalizzati; -Progettazione di Protocolli di Accoglienza (per alunni H, DSA, BES, stranieri).</a:t>
            </a: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31" name="Rettangolo 4"/>
          <p:cNvSpPr/>
          <p:nvPr/>
        </p:nvSpPr>
        <p:spPr>
          <a:xfrm>
            <a:off x="410760" y="182520"/>
            <a:ext cx="222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PROCESSI</a:t>
            </a:r>
            <a:endParaRPr b="0" lang="en-US" sz="3200" spc="-1" strike="noStrike">
              <a:solidFill>
                <a:srgbClr val="000000"/>
              </a:solidFill>
              <a:latin typeface="Arial"/>
            </a:endParaRPr>
          </a:p>
        </p:txBody>
      </p:sp>
      <p:sp>
        <p:nvSpPr>
          <p:cNvPr id="932" name="CasellaDiTesto 8"/>
          <p:cNvSpPr/>
          <p:nvPr/>
        </p:nvSpPr>
        <p:spPr>
          <a:xfrm>
            <a:off x="231840" y="682560"/>
            <a:ext cx="84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235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23543"/>
                </a:solidFill>
                <a:latin typeface="Georgia"/>
              </a:rPr>
              <a:t>Sviluppo professionale delle risorse umane - Livello 1: inadeguato</a:t>
            </a:r>
            <a:endParaRPr b="0" lang="en-US" sz="18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Segnaposto contenuto 1" descr=""/>
          <p:cNvPicPr/>
          <p:nvPr/>
        </p:nvPicPr>
        <p:blipFill>
          <a:blip r:embed="rId1"/>
          <a:stretch/>
        </p:blipFill>
        <p:spPr>
          <a:xfrm>
            <a:off x="450720" y="981000"/>
            <a:ext cx="8242560" cy="463392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txBox="1"/>
          <p:nvPr/>
        </p:nvSpPr>
        <p:spPr>
          <a:xfrm>
            <a:off x="457200" y="1877760"/>
            <a:ext cx="8229600" cy="3986280"/>
          </a:xfrm>
          <a:prstGeom prst="rect">
            <a:avLst/>
          </a:prstGeom>
          <a:noFill/>
          <a:ln w="0">
            <a:noFill/>
          </a:ln>
        </p:spPr>
        <p:txBody>
          <a:bodyPr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La percentuale effettiva di genitori votanti rispetto alla totalità degli aventi diritto è abbastanza bassa, il livello di partecipazione cosiddetta ‘informale’ dei genitori alle attività della scuola (partecipazione ai colloqui con gli insegnanti, collaborazione alla realizzazione di attività e</a:t>
            </a: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partecipazione a iniziative organizzate dalla scuola) risulta essere buono. (risultati questionario). La Scuola intrattiene rapporti di collaborazioni con associazioni culturali e sportive presenti sul territorio e ha un accordo formalizzato con l'Università di Basilicata per lo svolgimento di attività di tirocinio nella scuola dell'Infanzia e Primaria. La scuola ha proposto attività formativa con  altre scuole, predisponendo una rete finalizzata al miglioramento delle pratiche didattiche. </a:t>
            </a: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34" name="Rettangolo 4"/>
          <p:cNvSpPr/>
          <p:nvPr/>
        </p:nvSpPr>
        <p:spPr>
          <a:xfrm>
            <a:off x="410760" y="182520"/>
            <a:ext cx="222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PROCESSI</a:t>
            </a:r>
            <a:endParaRPr b="0" lang="en-US" sz="3200" spc="-1" strike="noStrike">
              <a:solidFill>
                <a:srgbClr val="000000"/>
              </a:solidFill>
              <a:latin typeface="Arial"/>
            </a:endParaRPr>
          </a:p>
        </p:txBody>
      </p:sp>
      <p:sp>
        <p:nvSpPr>
          <p:cNvPr id="935" name="CasellaDiTesto 8"/>
          <p:cNvSpPr/>
          <p:nvPr/>
        </p:nvSpPr>
        <p:spPr>
          <a:xfrm>
            <a:off x="231840" y="682560"/>
            <a:ext cx="845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235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23543"/>
                </a:solidFill>
                <a:latin typeface="Georgia"/>
              </a:rPr>
              <a:t>Capacità di governo del territorio e rapporti con le famiglie- Livello 2: accettabile</a:t>
            </a:r>
            <a:endParaRPr b="0" lang="en-US" sz="18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457200" y="1877760"/>
            <a:ext cx="8229600" cy="3986280"/>
          </a:xfrm>
          <a:prstGeom prst="rect">
            <a:avLst/>
          </a:prstGeom>
          <a:noFill/>
          <a:ln w="0">
            <a:noFill/>
          </a:ln>
        </p:spPr>
        <p:txBody>
          <a:bodyPr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La scuola ha programmato di recente specifiche attività di autovalutazione: monitoraggio POF, rilevazione della soddisfazione dell'utenza tramite questionari opportunamente predisposti, monitoraggio degli obiettivi cognitivi raggiunti alla fine del I e II quadrimestre. E' stato istituito di recente un Nucleo Interno di Valutazione formalizzato. La scuola ha posto in essere momenti di confronto sui risultati delle prove INVALSI nel Collegio dei Docenti ed ha programmato momenti di riflessione in sede di Consigli di Classe attraverso una rimodulazione della progettazione di classe.</a:t>
            </a: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37" name="Rettangolo 4"/>
          <p:cNvSpPr/>
          <p:nvPr/>
        </p:nvSpPr>
        <p:spPr>
          <a:xfrm>
            <a:off x="410760" y="182520"/>
            <a:ext cx="222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PROCESSI</a:t>
            </a:r>
            <a:endParaRPr b="0" lang="en-US" sz="3200" spc="-1" strike="noStrike">
              <a:solidFill>
                <a:srgbClr val="000000"/>
              </a:solidFill>
              <a:latin typeface="Arial"/>
            </a:endParaRPr>
          </a:p>
        </p:txBody>
      </p:sp>
      <p:sp>
        <p:nvSpPr>
          <p:cNvPr id="938" name="CasellaDiTesto 8"/>
          <p:cNvSpPr/>
          <p:nvPr/>
        </p:nvSpPr>
        <p:spPr>
          <a:xfrm>
            <a:off x="231840" y="682560"/>
            <a:ext cx="84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235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23543"/>
                </a:solidFill>
                <a:latin typeface="Georgia"/>
              </a:rPr>
              <a:t>Attività di autovalutazione - Livello 2: accettabile</a:t>
            </a:r>
            <a:endParaRPr b="0" lang="en-US" sz="18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1"/>
          <p:cNvSpPr/>
          <p:nvPr/>
        </p:nvSpPr>
        <p:spPr>
          <a:xfrm>
            <a:off x="596880" y="1785600"/>
            <a:ext cx="8278920" cy="3080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323543"/>
                </a:solidFill>
                <a:latin typeface="Times New Roman"/>
                <a:ea typeface="Times New Roman"/>
              </a:rPr>
              <a:t>Il Nucleo ha tracciato un quadro generale della situazione dell’istituto identificando i punti di criticità sui quali prospettare un piano di interventi al fine di migliorare la situazione esistente che il lavoro di autovalutazione ha permesso di valutare, mettendo in evidenza alcuni PUNTI DI FORZA E DI DEBOLEZZA</a:t>
            </a:r>
            <a:endParaRPr b="0" lang="en-US" sz="28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txBox="1"/>
          <p:nvPr/>
        </p:nvSpPr>
        <p:spPr>
          <a:xfrm>
            <a:off x="301320" y="1527120"/>
            <a:ext cx="8504280" cy="4572000"/>
          </a:xfrm>
          <a:prstGeom prst="rect">
            <a:avLst/>
          </a:prstGeom>
          <a:noFill/>
          <a:ln w="0">
            <a:noFill/>
          </a:ln>
        </p:spPr>
        <p:txBody>
          <a:bodyPr anchor="t">
            <a:normAutofit/>
          </a:bodyPr>
          <a:p>
            <a:pPr>
              <a:lnSpc>
                <a:spcPct val="100000"/>
              </a:lnSpc>
              <a:buClr>
                <a:srgbClr val="323543"/>
              </a:buClr>
              <a:buSzPct val="85000"/>
              <a:buFont typeface="Times New Roman"/>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2800" spc="-1" strike="noStrike">
                <a:solidFill>
                  <a:srgbClr val="323543"/>
                </a:solidFill>
                <a:latin typeface="Times New Roman"/>
                <a:ea typeface="Times New Roman"/>
              </a:rPr>
              <a:t>rapporto alunni-insegnanti favorevole</a:t>
            </a:r>
            <a:endParaRPr b="0" lang="en-US" sz="2800" spc="-1" strike="noStrike">
              <a:solidFill>
                <a:srgbClr val="000000"/>
              </a:solidFill>
              <a:latin typeface="Georgia"/>
            </a:endParaRPr>
          </a:p>
          <a:p>
            <a:pPr>
              <a:lnSpc>
                <a:spcPct val="100000"/>
              </a:lnSpc>
              <a:buClr>
                <a:srgbClr val="323543"/>
              </a:buClr>
              <a:buSzPct val="85000"/>
              <a:buFont typeface="Times New Roman"/>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2800" spc="-1" strike="noStrike">
                <a:solidFill>
                  <a:srgbClr val="323543"/>
                </a:solidFill>
                <a:latin typeface="Times New Roman"/>
                <a:ea typeface="Times New Roman"/>
              </a:rPr>
              <a:t>stabilità dei docenti</a:t>
            </a:r>
            <a:endParaRPr b="0" lang="en-US" sz="2800" spc="-1" strike="noStrike">
              <a:solidFill>
                <a:srgbClr val="000000"/>
              </a:solidFill>
              <a:latin typeface="Georgia"/>
            </a:endParaRPr>
          </a:p>
          <a:p>
            <a:pPr>
              <a:lnSpc>
                <a:spcPct val="100000"/>
              </a:lnSpc>
              <a:buClr>
                <a:srgbClr val="323543"/>
              </a:buClr>
              <a:buSzPct val="85000"/>
              <a:buFont typeface="Times New Roman"/>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2800" spc="-1" strike="noStrike">
                <a:solidFill>
                  <a:srgbClr val="323543"/>
                </a:solidFill>
                <a:latin typeface="Times New Roman"/>
                <a:ea typeface="Times New Roman"/>
              </a:rPr>
              <a:t>apprezzamento delle famiglie</a:t>
            </a:r>
            <a:endParaRPr b="0" lang="en-US" sz="2800" spc="-1" strike="noStrike">
              <a:solidFill>
                <a:srgbClr val="000000"/>
              </a:solidFill>
              <a:latin typeface="Georgia"/>
            </a:endParaRPr>
          </a:p>
          <a:p>
            <a:pPr>
              <a:lnSpc>
                <a:spcPct val="100000"/>
              </a:lnSpc>
              <a:buClr>
                <a:srgbClr val="323543"/>
              </a:buClr>
              <a:buSzPct val="85000"/>
              <a:buFont typeface="Times New Roman"/>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2800" spc="-1" strike="noStrike">
                <a:solidFill>
                  <a:srgbClr val="323543"/>
                </a:solidFill>
                <a:latin typeface="Times New Roman"/>
                <a:ea typeface="Times New Roman"/>
              </a:rPr>
              <a:t>rapporti positivi con gli enti locali</a:t>
            </a:r>
            <a:endParaRPr b="0" lang="en-US" sz="2800" spc="-1" strike="noStrike">
              <a:solidFill>
                <a:srgbClr val="000000"/>
              </a:solidFill>
              <a:latin typeface="Georgia"/>
            </a:endParaRPr>
          </a:p>
          <a:p>
            <a:pPr>
              <a:lnSpc>
                <a:spcPct val="100000"/>
              </a:lnSpc>
              <a:buClr>
                <a:srgbClr val="323543"/>
              </a:buClr>
              <a:buSzPct val="85000"/>
              <a:buFont typeface="Times New Roman"/>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2800" spc="-1" strike="noStrike">
                <a:solidFill>
                  <a:srgbClr val="323543"/>
                </a:solidFill>
                <a:latin typeface="Times New Roman"/>
                <a:ea typeface="Times New Roman"/>
              </a:rPr>
              <a:t>apertura dell’Istituto al territorio</a:t>
            </a:r>
            <a:endParaRPr b="0" lang="en-US" sz="2800" spc="-1" strike="noStrike">
              <a:solidFill>
                <a:srgbClr val="000000"/>
              </a:solidFill>
              <a:latin typeface="Georgia"/>
            </a:endParaRPr>
          </a:p>
        </p:txBody>
      </p:sp>
      <p:sp>
        <p:nvSpPr>
          <p:cNvPr id="9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7b9899"/>
                </a:solidFill>
                <a:latin typeface="Georgia"/>
              </a:rPr>
              <a:t>PUNTI DI FORZA</a:t>
            </a:r>
            <a:endParaRPr b="0" lang="en-US" sz="3300" spc="-1" strike="noStrike">
              <a:solidFill>
                <a:srgbClr val="7b9899"/>
              </a:solidFill>
              <a:latin typeface="Georgia"/>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7b9899"/>
                </a:solidFill>
                <a:latin typeface="Georgia"/>
              </a:rPr>
              <a:t>PUNTI DI DEBOLEZZA</a:t>
            </a:r>
            <a:endParaRPr b="0" lang="en-US" sz="3300" spc="-1" strike="noStrike">
              <a:solidFill>
                <a:srgbClr val="7b9899"/>
              </a:solidFill>
              <a:latin typeface="Georgia"/>
            </a:endParaRPr>
          </a:p>
        </p:txBody>
      </p:sp>
      <p:sp>
        <p:nvSpPr>
          <p:cNvPr id="943" name="Rectangle 1"/>
          <p:cNvSpPr/>
          <p:nvPr/>
        </p:nvSpPr>
        <p:spPr>
          <a:xfrm>
            <a:off x="301680" y="1641960"/>
            <a:ext cx="805032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23543"/>
              </a:buClr>
              <a:buFont typeface="Times New Roman"/>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2400" spc="-1" strike="noStrike">
                <a:solidFill>
                  <a:srgbClr val="323543"/>
                </a:solidFill>
                <a:latin typeface="Times New Roman"/>
                <a:ea typeface="Times New Roman"/>
              </a:rPr>
              <a:t>persistente complessità dell’Istituto e relative difficoltà di relazione-conoscenza-confronto tra le varie componenti;</a:t>
            </a:r>
            <a:endParaRPr b="0" lang="en-US" sz="2400" spc="-1" strike="noStrike">
              <a:solidFill>
                <a:srgbClr val="000000"/>
              </a:solidFill>
              <a:latin typeface="Arial"/>
            </a:endParaRPr>
          </a:p>
          <a:p>
            <a:pPr>
              <a:lnSpc>
                <a:spcPct val="100000"/>
              </a:lnSpc>
              <a:buClr>
                <a:srgbClr val="323543"/>
              </a:buClr>
              <a:buFont typeface="Times New Roman"/>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2400" spc="-1" strike="noStrike">
                <a:solidFill>
                  <a:srgbClr val="323543"/>
                </a:solidFill>
                <a:latin typeface="Times New Roman"/>
                <a:ea typeface="Times New Roman"/>
              </a:rPr>
              <a:t>difficoltà nel gestire la continuità tra gli ordini di scuola e di condivisione dei criteri valutativi; </a:t>
            </a:r>
            <a:endParaRPr b="0" lang="en-US" sz="2400" spc="-1" strike="noStrike">
              <a:solidFill>
                <a:srgbClr val="000000"/>
              </a:solidFill>
              <a:latin typeface="Arial"/>
            </a:endParaRPr>
          </a:p>
          <a:p>
            <a:pPr>
              <a:lnSpc>
                <a:spcPct val="100000"/>
              </a:lnSpc>
              <a:buClr>
                <a:srgbClr val="323543"/>
              </a:buClr>
              <a:buFont typeface="Times New Roman"/>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2400" spc="-1" strike="noStrike">
                <a:solidFill>
                  <a:srgbClr val="323543"/>
                </a:solidFill>
                <a:latin typeface="Times New Roman"/>
                <a:ea typeface="Times New Roman"/>
              </a:rPr>
              <a:t>mancanza di una progettazione condivisa,</a:t>
            </a:r>
            <a:endParaRPr b="0" lang="en-US" sz="2400" spc="-1" strike="noStrike">
              <a:solidFill>
                <a:srgbClr val="000000"/>
              </a:solidFill>
              <a:latin typeface="Arial"/>
            </a:endParaRPr>
          </a:p>
          <a:p>
            <a:pPr>
              <a:lnSpc>
                <a:spcPct val="100000"/>
              </a:lnSpc>
              <a:buClr>
                <a:srgbClr val="323543"/>
              </a:buClr>
              <a:buFont typeface="Times New Roman"/>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2400" spc="-1" strike="noStrike">
                <a:solidFill>
                  <a:srgbClr val="323543"/>
                </a:solidFill>
                <a:latin typeface="Times New Roman"/>
                <a:ea typeface="Times New Roman"/>
              </a:rPr>
              <a:t>mancanza di procedure di valutazione oggettiva</a:t>
            </a:r>
            <a:endParaRPr b="0" lang="en-US" sz="2400" spc="-1" strike="noStrike">
              <a:solidFill>
                <a:srgbClr val="000000"/>
              </a:solidFill>
              <a:latin typeface="Arial"/>
            </a:endParaRPr>
          </a:p>
          <a:p>
            <a:pPr>
              <a:lnSpc>
                <a:spcPct val="100000"/>
              </a:lnSpc>
              <a:buClr>
                <a:srgbClr val="323543"/>
              </a:buClr>
              <a:buFont typeface="Times New Roman"/>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2400" spc="-1" strike="noStrike">
                <a:solidFill>
                  <a:srgbClr val="323543"/>
                </a:solidFill>
                <a:latin typeface="Times New Roman"/>
                <a:ea typeface="Times New Roman"/>
              </a:rPr>
              <a:t>persistenza di episodi relativi al mancato rispetto del regolamento interno; </a:t>
            </a:r>
            <a:endParaRPr b="0" lang="en-US" sz="2400" spc="-1" strike="noStrike">
              <a:solidFill>
                <a:srgbClr val="000000"/>
              </a:solidFill>
              <a:latin typeface="Arial"/>
            </a:endParaRPr>
          </a:p>
          <a:p>
            <a:pPr>
              <a:lnSpc>
                <a:spcPct val="100000"/>
              </a:lnSpc>
              <a:buClr>
                <a:srgbClr val="323543"/>
              </a:buClr>
              <a:buFont typeface="Times New Roman"/>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2400" spc="-1" strike="noStrike">
                <a:solidFill>
                  <a:srgbClr val="323543"/>
                </a:solidFill>
                <a:latin typeface="Times New Roman"/>
                <a:ea typeface="Times New Roman"/>
              </a:rPr>
              <a:t>situazione disomogenea delle classi rispetto ai risultati delle prove INVALSI;</a:t>
            </a:r>
            <a:endParaRPr b="0" lang="en-US" sz="2400" spc="-1" strike="noStrike">
              <a:solidFill>
                <a:srgbClr val="000000"/>
              </a:solidFill>
              <a:latin typeface="Arial"/>
            </a:endParaRPr>
          </a:p>
          <a:p>
            <a:pPr>
              <a:lnSpc>
                <a:spcPct val="100000"/>
              </a:lnSpc>
              <a:buClr>
                <a:srgbClr val="323543"/>
              </a:buClr>
              <a:buFont typeface="Times New Roman"/>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2400" spc="-1" strike="noStrike">
                <a:solidFill>
                  <a:srgbClr val="323543"/>
                </a:solidFill>
                <a:latin typeface="Times New Roman"/>
                <a:ea typeface="Times New Roman"/>
              </a:rPr>
              <a:t>criticità negli apprendimenti;</a:t>
            </a:r>
            <a:endParaRPr b="0" lang="en-US" sz="2400" spc="-1" strike="noStrike">
              <a:solidFill>
                <a:srgbClr val="000000"/>
              </a:solidFill>
              <a:latin typeface="Arial"/>
            </a:endParaRPr>
          </a:p>
          <a:p>
            <a:pPr>
              <a:lnSpc>
                <a:spcPct val="100000"/>
              </a:lnSpc>
              <a:buClr>
                <a:srgbClr val="323543"/>
              </a:buClr>
              <a:buFont typeface="Arial"/>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2400" spc="-1" strike="noStrike">
                <a:solidFill>
                  <a:srgbClr val="323543"/>
                </a:solidFill>
                <a:latin typeface="Times New Roman"/>
                <a:ea typeface="Times New Roman"/>
              </a:rPr>
              <a:t>scarso e difficoltoso utilizzo delle nuove tecnologie nella didattica. </a:t>
            </a:r>
            <a:endParaRPr b="0" lang="en-US" sz="24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301320" y="1768320"/>
            <a:ext cx="8504280" cy="4461120"/>
          </a:xfrm>
          <a:prstGeom prst="rect">
            <a:avLst/>
          </a:prstGeom>
          <a:noFill/>
          <a:ln w="0">
            <a:noFill/>
          </a:ln>
        </p:spPr>
        <p:txBody>
          <a:bodyPr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543"/>
                </a:solidFill>
                <a:latin typeface="Times New Roman"/>
                <a:ea typeface="Times New Roman"/>
              </a:rPr>
              <a:t>Adempimenti formali insufficienti a garantire l'inclusione degli studenti con difficoltà</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543"/>
                </a:solidFill>
                <a:latin typeface="Times New Roman"/>
                <a:ea typeface="Times New Roman"/>
              </a:rPr>
              <a:t>scarsa attenzione rivolta agli studenti con cittadinanza non italiana </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543"/>
                </a:solidFill>
                <a:latin typeface="Times New Roman"/>
                <a:ea typeface="Times New Roman"/>
              </a:rPr>
              <a:t>mancanza di protocolli di accoglienza sia per gli alunni stranieri che per i diversamente abili, per i DSA e per gli alunni con Bisogni Educativi Specifici</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543"/>
                </a:solidFill>
                <a:latin typeface="Times New Roman"/>
                <a:ea typeface="Times New Roman"/>
              </a:rPr>
              <a:t>limitata applicazione di metodologie didattiche innovative</a:t>
            </a:r>
            <a:endParaRPr b="0" lang="en-US" sz="2400" spc="-1" strike="noStrike">
              <a:solidFill>
                <a:srgbClr val="000000"/>
              </a:solidFill>
              <a:latin typeface="Georgia"/>
            </a:endParaRPr>
          </a:p>
        </p:txBody>
      </p:sp>
      <p:sp>
        <p:nvSpPr>
          <p:cNvPr id="945" name="Rettangolo 3"/>
          <p:cNvSpPr/>
          <p:nvPr/>
        </p:nvSpPr>
        <p:spPr>
          <a:xfrm>
            <a:off x="2048040" y="438120"/>
            <a:ext cx="4870080" cy="59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300" spc="-1" strike="noStrike">
                <a:solidFill>
                  <a:srgbClr val="7b9899"/>
                </a:solidFill>
                <a:latin typeface="Georgia"/>
              </a:rPr>
              <a:t>PUNTI DI DEBOLEZZA</a:t>
            </a:r>
            <a:endParaRPr b="0" lang="en-US" sz="3300" spc="-1" strike="noStrike">
              <a:solidFill>
                <a:srgbClr val="000000"/>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6" name="Group 2"/>
          <p:cNvGrpSpPr/>
          <p:nvPr/>
        </p:nvGrpSpPr>
        <p:grpSpPr>
          <a:xfrm>
            <a:off x="914400" y="1487520"/>
            <a:ext cx="7351200" cy="4803480"/>
            <a:chOff x="914400" y="1487520"/>
            <a:chExt cx="7351200" cy="4803480"/>
          </a:xfrm>
        </p:grpSpPr>
        <p:sp>
          <p:nvSpPr>
            <p:cNvPr id="947" name="Text Box 3"/>
            <p:cNvSpPr/>
            <p:nvPr/>
          </p:nvSpPr>
          <p:spPr>
            <a:xfrm>
              <a:off x="914400" y="2928600"/>
              <a:ext cx="2673000" cy="96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Arial"/>
                </a:rPr>
                <a:t>A identificare i propri</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Arial"/>
                </a:rPr>
                <a:t>PUNTI DI FORZA</a:t>
              </a:r>
              <a:endParaRPr b="0" lang="en-US" sz="1200" spc="-1" strike="noStrike">
                <a:solidFill>
                  <a:srgbClr val="000000"/>
                </a:solidFill>
                <a:latin typeface="Arial"/>
              </a:endParaRPr>
            </a:p>
          </p:txBody>
        </p:sp>
        <p:sp>
          <p:nvSpPr>
            <p:cNvPr id="948" name="Text Box 4"/>
            <p:cNvSpPr/>
            <p:nvPr/>
          </p:nvSpPr>
          <p:spPr>
            <a:xfrm>
              <a:off x="5592600" y="2928600"/>
              <a:ext cx="2673000" cy="96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Arial"/>
                </a:rPr>
                <a:t>A individuare le propri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Arial"/>
                </a:rPr>
                <a:t>CRITICITA’</a:t>
              </a:r>
              <a:endParaRPr b="0" lang="en-US" sz="1200" spc="-1" strike="noStrike">
                <a:solidFill>
                  <a:srgbClr val="000000"/>
                </a:solidFill>
                <a:latin typeface="Arial"/>
              </a:endParaRPr>
            </a:p>
          </p:txBody>
        </p:sp>
        <p:sp>
          <p:nvSpPr>
            <p:cNvPr id="949" name="Text Box 5"/>
            <p:cNvSpPr/>
            <p:nvPr/>
          </p:nvSpPr>
          <p:spPr>
            <a:xfrm>
              <a:off x="3253680" y="4369680"/>
              <a:ext cx="2673000" cy="192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Arial"/>
                </a:rPr>
                <a:t>Ad avvalersi dei</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Arial"/>
                </a:rPr>
                <a:t>PUNTI DI FORZA</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Arial"/>
                </a:rPr>
                <a:t>per superare l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Arial"/>
                </a:rPr>
                <a:t>CRITICITA’</a:t>
              </a:r>
              <a:endParaRPr b="0" lang="en-US" sz="1200" spc="-1" strike="noStrike">
                <a:solidFill>
                  <a:srgbClr val="000000"/>
                </a:solidFill>
                <a:latin typeface="Arial"/>
              </a:endParaRPr>
            </a:p>
          </p:txBody>
        </p:sp>
        <p:sp>
          <p:nvSpPr>
            <p:cNvPr id="950" name="Text Box 6"/>
            <p:cNvSpPr/>
            <p:nvPr/>
          </p:nvSpPr>
          <p:spPr>
            <a:xfrm>
              <a:off x="2250720" y="1487520"/>
              <a:ext cx="4678200" cy="960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Arial"/>
                </a:rPr>
                <a:t>SCOPO DEL PDM</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Arial"/>
                </a:rPr>
                <a:t>Aiutare la scuola</a:t>
              </a:r>
              <a:endParaRPr b="0" lang="en-US" sz="1400" spc="-1" strike="noStrike">
                <a:solidFill>
                  <a:srgbClr val="000000"/>
                </a:solidFill>
                <a:latin typeface="Arial"/>
              </a:endParaRPr>
            </a:p>
          </p:txBody>
        </p:sp>
        <p:sp>
          <p:nvSpPr>
            <p:cNvPr id="951" name="AutoShape 7"/>
            <p:cNvSpPr/>
            <p:nvPr/>
          </p:nvSpPr>
          <p:spPr>
            <a:xfrm>
              <a:off x="1248480" y="3889080"/>
              <a:ext cx="1670400" cy="1601280"/>
            </a:xfrm>
            <a:custGeom>
              <a:avLst/>
              <a:gdLst>
                <a:gd name="textAreaLeft" fmla="*/ 223560 w 1670400"/>
                <a:gd name="textAreaRight" fmla="*/ 1446840 w 1670400"/>
                <a:gd name="textAreaTop" fmla="*/ 280080 h 1601280"/>
                <a:gd name="textAreaBottom" fmla="*/ 1161000 h 1601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2" name="AutoShape 8"/>
            <p:cNvSpPr/>
            <p:nvPr/>
          </p:nvSpPr>
          <p:spPr>
            <a:xfrm>
              <a:off x="6260760" y="3889080"/>
              <a:ext cx="1503720" cy="1761480"/>
            </a:xfrm>
            <a:custGeom>
              <a:avLst/>
              <a:gdLst>
                <a:gd name="textAreaLeft" fmla="*/ 201240 w 1503720"/>
                <a:gd name="textAreaRight" fmla="*/ 1302480 w 1503720"/>
                <a:gd name="textAreaTop" fmla="*/ 308160 h 1761480"/>
                <a:gd name="textAreaBottom" fmla="*/ 1277280 h 1761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271080" y="412560"/>
            <a:ext cx="8534520" cy="758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b9899"/>
                </a:solidFill>
                <a:latin typeface="Georgia"/>
              </a:rPr>
              <a:t>IDEA GUIDA DEL PIANO DI MIGLIORAMENTO</a:t>
            </a:r>
            <a:endParaRPr b="0" lang="en-US" sz="2800" spc="-1" strike="noStrike">
              <a:solidFill>
                <a:srgbClr val="7b9899"/>
              </a:solidFill>
              <a:latin typeface="Georgia"/>
            </a:endParaRPr>
          </a:p>
        </p:txBody>
      </p:sp>
      <p:sp>
        <p:nvSpPr>
          <p:cNvPr id="954" name=""/>
          <p:cNvSpPr txBox="1"/>
          <p:nvPr/>
        </p:nvSpPr>
        <p:spPr>
          <a:xfrm>
            <a:off x="271080" y="1523880"/>
            <a:ext cx="3824280" cy="46576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543"/>
                </a:solidFill>
                <a:latin typeface="Times New Roman"/>
                <a:ea typeface="Times New Roman"/>
              </a:rPr>
              <a:t>    </a:t>
            </a:r>
            <a:r>
              <a:rPr b="1" lang="it-IT" sz="2400" spc="-1" strike="noStrike">
                <a:solidFill>
                  <a:srgbClr val="323543"/>
                </a:solidFill>
                <a:latin typeface="Times New Roman"/>
                <a:ea typeface="Times New Roman"/>
              </a:rPr>
              <a:t>Partendo dall’analisi del Rapporto di Autovalutazione sono state dunque individuate le aree di miglioramento sulle quali si ritiene opportuno intervenire in via prioritaria e definiti gli obiettivi che consentiranno un ripensamento della missione dell’istituto. </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9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56" name="Picture 4" descr=""/>
          <p:cNvPicPr/>
          <p:nvPr/>
        </p:nvPicPr>
        <p:blipFill>
          <a:blip r:embed="rId1"/>
          <a:srcRect l="19358" t="37143" r="42445" b="9241"/>
          <a:stretch/>
        </p:blipFill>
        <p:spPr>
          <a:xfrm>
            <a:off x="4095720" y="1657440"/>
            <a:ext cx="4896000" cy="4324320"/>
          </a:xfrm>
          <a:prstGeom prst="rect">
            <a:avLst/>
          </a:prstGeom>
          <a:ln w="0">
            <a:noFill/>
          </a:ln>
        </p:spPr>
      </p:pic>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ttangolo 1"/>
          <p:cNvSpPr/>
          <p:nvPr/>
        </p:nvSpPr>
        <p:spPr>
          <a:xfrm>
            <a:off x="450720" y="1852560"/>
            <a:ext cx="84121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4000" spc="-1" strike="noStrike">
                <a:solidFill>
                  <a:srgbClr val="7b9899"/>
                </a:solidFill>
                <a:latin typeface="Georgia"/>
              </a:rPr>
              <a:t>INDIVIDUAZIONE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4000" spc="-1" strike="noStrike">
                <a:solidFill>
                  <a:srgbClr val="7b9899"/>
                </a:solidFill>
                <a:latin typeface="Georgia"/>
              </a:rPr>
              <a:t>OBIETTIVI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4000" spc="-1" strike="noStrike">
                <a:solidFill>
                  <a:srgbClr val="7b9899"/>
                </a:solidFill>
                <a:latin typeface="Georgia"/>
              </a:rPr>
              <a:t>DI MIGLIORAMENTO</a:t>
            </a:r>
            <a:endParaRPr b="0" lang="en-US" sz="4000" spc="-1" strike="noStrike">
              <a:solidFill>
                <a:srgbClr val="00000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txBox="1"/>
          <p:nvPr/>
        </p:nvSpPr>
        <p:spPr>
          <a:xfrm>
            <a:off x="457200" y="816120"/>
            <a:ext cx="8491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959" name=""/>
          <p:cNvGraphicFramePr/>
          <p:nvPr/>
        </p:nvGraphicFramePr>
        <p:xfrm>
          <a:off x="457200" y="816120"/>
          <a:ext cx="8491680" cy="4998960"/>
        </p:xfrm>
        <a:graphic>
          <a:graphicData uri="http://schemas.openxmlformats.org/drawingml/2006/table">
            <a:tbl>
              <a:tblPr/>
              <a:tblGrid>
                <a:gridCol w="4246560"/>
                <a:gridCol w="4245120"/>
              </a:tblGrid>
              <a:tr h="14655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Arial"/>
                        </a:rPr>
                        <a:t>OBIETTIVO 1 </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Arial"/>
                        </a:rPr>
                        <a:t>Utilizzare criteri e strumenti condivisi di programmazione e di valutazione degli studenti per competen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ICATORE</a:t>
                      </a:r>
                      <a:r>
                        <a:rPr b="1" lang="it-IT" sz="1600" spc="-1" strike="noStrike">
                          <a:solidFill>
                            <a:srgbClr val="ffffff"/>
                          </a:solidFill>
                          <a:latin typeface="Times New Roman"/>
                          <a:ea typeface="Times New Roman"/>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ea typeface="Times New Roman"/>
                        </a:rPr>
                        <a:t>Curricolo per competenze</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ea typeface="Times New Roman"/>
                        </a:rPr>
                        <a:t>Attività  per competenze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33400">
                <a:tc gridSpan="2">
                  <a: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7375e"/>
                          </a:solidFill>
                          <a:latin typeface="Times New Roman"/>
                          <a:ea typeface="Times New Roman"/>
                        </a:rPr>
                        <a:t>Formare i docenti in merito a:</a:t>
                      </a: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7375e"/>
                          </a:solidFill>
                          <a:latin typeface="Times New Roman"/>
                          <a:ea typeface="Times New Roman"/>
                        </a:rPr>
                        <a:t>“</a:t>
                      </a:r>
                      <a:r>
                        <a:rPr b="1" lang="it-IT" sz="1600" spc="-1" strike="noStrike">
                          <a:solidFill>
                            <a:srgbClr val="17375e"/>
                          </a:solidFill>
                          <a:latin typeface="Times New Roman"/>
                          <a:ea typeface="Times New Roman"/>
                        </a:rPr>
                        <a:t>Lavorare per competenze”</a:t>
                      </a: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7375e"/>
                          </a:solidFill>
                          <a:latin typeface="Times New Roman"/>
                          <a:ea typeface="Times New Roman"/>
                        </a:rPr>
                        <a:t>(Progettare per competenze</a:t>
                      </a: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7375e"/>
                          </a:solidFill>
                          <a:latin typeface="Times New Roman"/>
                          <a:ea typeface="Times New Roman"/>
                        </a:rPr>
                        <a:t>Valutazione per competenze</a:t>
                      </a: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7375e"/>
                          </a:solidFill>
                          <a:latin typeface="Times New Roman"/>
                          <a:ea typeface="Times New Roman"/>
                        </a:rPr>
                        <a:t>Certificazione per competenze)</a:t>
                      </a: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7375e"/>
                          </a:solidFill>
                          <a:latin typeface="Times New Roman"/>
                          <a:ea typeface="Times New Roman"/>
                        </a:rPr>
                        <a:t>Processi:</a:t>
                      </a: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7375e"/>
                          </a:solidFill>
                          <a:latin typeface="Times New Roman"/>
                          <a:ea typeface="Times New Roman"/>
                        </a:rPr>
                        <a:t> </a:t>
                      </a:r>
                      <a:r>
                        <a:rPr b="1" lang="it-IT" sz="1600" spc="-1" strike="noStrike">
                          <a:solidFill>
                            <a:srgbClr val="17375e"/>
                          </a:solidFill>
                          <a:latin typeface="Times New Roman"/>
                          <a:ea typeface="Times New Roman"/>
                        </a:rPr>
                        <a:t>Formazione in aula dei docenti</a:t>
                      </a: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7375e"/>
                          </a:solidFill>
                          <a:latin typeface="Times New Roman"/>
                          <a:ea typeface="Times New Roman"/>
                        </a:rPr>
                        <a:t>Gruppo di studio, ricerca e progettazione didattica</a:t>
                      </a: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7375e"/>
                          </a:solidFill>
                          <a:latin typeface="Times New Roman"/>
                          <a:ea typeface="Times New Roman"/>
                        </a:rPr>
                        <a:t>Produzione materiali guid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CasellaDiTesto 2"/>
          <p:cNvSpPr/>
          <p:nvPr/>
        </p:nvSpPr>
        <p:spPr>
          <a:xfrm>
            <a:off x="755640" y="317520"/>
            <a:ext cx="7488360" cy="10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Il rapporto di valutazione si compone di due parti:</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984807"/>
                </a:solidFill>
                <a:latin typeface="Calibri"/>
              </a:rPr>
              <a:t>Analisi della situazion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254061"/>
                </a:solidFill>
                <a:latin typeface="Calibri"/>
              </a:rPr>
              <a:t>Obiettivi  di miglioramento</a:t>
            </a:r>
            <a:endParaRPr b="0" lang="en-US" sz="2400" spc="-1" strike="noStrike">
              <a:solidFill>
                <a:srgbClr val="000000"/>
              </a:solidFill>
              <a:latin typeface="Arial"/>
            </a:endParaRPr>
          </a:p>
        </p:txBody>
      </p:sp>
      <p:graphicFrame>
        <p:nvGraphicFramePr>
          <p:cNvPr id="884" name=""/>
          <p:cNvGraphicFramePr/>
          <p:nvPr/>
        </p:nvGraphicFramePr>
        <p:xfrm>
          <a:off x="630360" y="1528920"/>
          <a:ext cx="8082000" cy="5010120"/>
        </p:xfrm>
        <a:graphic>
          <a:graphicData uri="http://schemas.openxmlformats.org/drawingml/2006/table">
            <a:tbl>
              <a:tblPr/>
              <a:tblGrid>
                <a:gridCol w="4041720"/>
                <a:gridCol w="4040280"/>
              </a:tblGrid>
              <a:tr h="459360">
                <a:tc row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rPr>
                        <a:t>ANALISI E VALUTAZI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Esit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b3d7"/>
                    </a:solidFill>
                  </a:tcPr>
                </a:tc>
              </a:tr>
              <a:tr h="1051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Successo scolast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Competenze di b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Equità degli es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Risultati a distanza</a:t>
                      </a:r>
                      <a:endParaRPr b="0" lang="en-US" sz="14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testo</a:t>
                      </a:r>
                      <a:endParaRPr b="0" lang="en-US" sz="2000" spc="-1" strike="noStrike">
                        <a:solidFill>
                          <a:srgbClr val="000000"/>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8eb4e3"/>
                    </a:solidFill>
                  </a:tcPr>
                </a:tc>
              </a:tr>
              <a:tr h="62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Capitale sociale </a:t>
                      </a:r>
                      <a:r>
                        <a:rPr b="0" lang="it-IT"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Risorse economiche, materiali e professionali</a:t>
                      </a:r>
                      <a:endParaRPr b="0" lang="en-US" sz="1400" spc="-1" strike="noStrike">
                        <a:solidFill>
                          <a:srgbClr val="000000"/>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rocessi</a:t>
                      </a:r>
                      <a:endParaRPr b="0" lang="en-US" sz="2000" spc="-1" strike="noStrike">
                        <a:solidFill>
                          <a:srgbClr val="000000"/>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95b3d7"/>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Pratiche educative e didattic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Ambiente organizzativo per l’ apprendimento</a:t>
                      </a:r>
                      <a:endParaRPr b="0" lang="en-US" sz="1400" spc="-1" strike="noStrike">
                        <a:solidFill>
                          <a:srgbClr val="000000"/>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3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rPr>
                        <a:t>OBIETTIVI DI MIGLIORAMENTO</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48a5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roposte di miglioramento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r h="85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Situazione attua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Valori/dati di riferimen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Risultato attes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b3d7"/>
                    </a:solidFill>
                  </a:tcPr>
                </a:tc>
              </a:tr>
            </a:tbl>
          </a:graphicData>
        </a:graphic>
      </p:graphicFrame>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0" name=""/>
          <p:cNvGraphicFramePr/>
          <p:nvPr/>
        </p:nvGraphicFramePr>
        <p:xfrm>
          <a:off x="612720" y="561960"/>
          <a:ext cx="8220240" cy="4937040"/>
        </p:xfrm>
        <a:graphic>
          <a:graphicData uri="http://schemas.openxmlformats.org/drawingml/2006/table">
            <a:tbl>
              <a:tblPr/>
              <a:tblGrid>
                <a:gridCol w="2055960"/>
                <a:gridCol w="2054160"/>
                <a:gridCol w="2054160"/>
                <a:gridCol w="2055960"/>
              </a:tblGrid>
              <a:tr h="64260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u="sng">
                          <a:solidFill>
                            <a:srgbClr val="0000ff"/>
                          </a:solidFill>
                          <a:uFillTx/>
                          <a:latin typeface="Calibri"/>
                          <a:hlinkClick r:id="rId1"/>
                        </a:rPr>
                        <a:t>DATI  OB. 1</a:t>
                      </a:r>
                      <a:r>
                        <a:rPr b="1" lang="it-IT" sz="1800" spc="-1" strike="noStrike">
                          <a:solidFill>
                            <a:srgbClr val="ffffff"/>
                          </a:solidFill>
                          <a:latin typeface="Calibri"/>
                        </a:rPr>
                        <a:t>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Situazione attuale </a:t>
                      </a:r>
                      <a:r>
                        <a:rPr b="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Valori di Riferimento </a:t>
                      </a:r>
                      <a:r>
                        <a:rPr b="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Risultato atteso </a:t>
                      </a:r>
                      <a:r>
                        <a:rPr b="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Risultato consegui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6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 in atto il passaggio dalla Progettazione per UD alla Progettazione per competenze sia a livello di C.d.C. che d'Istitu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nca il Curricolo d’Istitu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 numero assai limitato di docenti ha messo in atto la progettazione e la valutazione per competenz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viluppare la cultu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ella progetta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ndivisa e coordinata in verticale tra i diversi ordini di scuo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tività metodologica innovativa(per competenze) in almeno una class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800" spc="-1" strike="noStrike">
                          <a:solidFill>
                            <a:srgbClr val="000000"/>
                          </a:solidFill>
                          <a:latin typeface="Calibri"/>
                        </a:rPr>
                        <a:t>(a seguito di piano di miglioramento) </a:t>
                      </a:r>
                      <a:r>
                        <a:rPr b="0" i="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1" name=""/>
          <p:cNvGraphicFramePr/>
          <p:nvPr/>
        </p:nvGraphicFramePr>
        <p:xfrm>
          <a:off x="318960" y="1573200"/>
          <a:ext cx="8491680" cy="2011320"/>
        </p:xfrm>
        <a:graphic>
          <a:graphicData uri="http://schemas.openxmlformats.org/drawingml/2006/table">
            <a:tbl>
              <a:tblPr/>
              <a:tblGrid>
                <a:gridCol w="4246560"/>
                <a:gridCol w="4245120"/>
              </a:tblGrid>
              <a:tr h="201420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Arial"/>
                        </a:rPr>
                        <a:t>OBIETTIVO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Sostenere gli alunni stranieri nell'apprendimento della lingua italiana, come strumento di approccio indispensabile al processo di integrazione/inclus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ICATO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Alfabetizzazione  di alunni stranier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2" name=""/>
          <p:cNvGraphicFramePr/>
          <p:nvPr/>
        </p:nvGraphicFramePr>
        <p:xfrm>
          <a:off x="612720" y="561960"/>
          <a:ext cx="8220240" cy="4664160"/>
        </p:xfrm>
        <a:graphic>
          <a:graphicData uri="http://schemas.openxmlformats.org/drawingml/2006/table">
            <a:tbl>
              <a:tblPr/>
              <a:tblGrid>
                <a:gridCol w="2055960"/>
                <a:gridCol w="2054160"/>
                <a:gridCol w="2054160"/>
                <a:gridCol w="2055960"/>
              </a:tblGrid>
              <a:tr h="64260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u="sng">
                          <a:solidFill>
                            <a:srgbClr val="0000ff"/>
                          </a:solidFill>
                          <a:uFillTx/>
                          <a:latin typeface="Calibri"/>
                          <a:hlinkClick r:id="rId1"/>
                        </a:rPr>
                        <a:t>DATI  OB_2</a:t>
                      </a:r>
                      <a:r>
                        <a:rPr b="1" lang="it-IT" sz="1800" spc="-1" strike="noStrike">
                          <a:solidFill>
                            <a:srgbClr val="ffffff"/>
                          </a:solidFill>
                          <a:latin typeface="Calibri"/>
                        </a:rPr>
                        <a:t>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Situazione attuale </a:t>
                      </a:r>
                      <a:r>
                        <a:rPr b="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Valori di Riferimento </a:t>
                      </a:r>
                      <a:r>
                        <a:rPr b="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Risultato atteso </a:t>
                      </a:r>
                      <a:r>
                        <a:rPr b="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Risultato consegui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11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ncanza di un protocollo di accoglienza  -Carente alfabetizzazione linguistica ed educazione intercultur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ncanza di mediatori culturali per i colloqui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 numero assai limitato di docenti hanno progettato percorsi di alfabetizz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stituzione di una Commissione Interculturale (Refer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rsi di alfabetizzazione L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Elaborazione e condivisione di criteri per una Valutazione differenzi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800" spc="-1" strike="noStrike">
                          <a:solidFill>
                            <a:srgbClr val="000000"/>
                          </a:solidFill>
                          <a:latin typeface="Calibri"/>
                        </a:rPr>
                        <a:t>(a seguito di piano di miglioramento) </a:t>
                      </a:r>
                      <a:r>
                        <a:rPr b="0" i="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3" name=""/>
          <p:cNvGraphicFramePr/>
          <p:nvPr/>
        </p:nvGraphicFramePr>
        <p:xfrm>
          <a:off x="274680" y="1219320"/>
          <a:ext cx="8491320" cy="2743200"/>
        </p:xfrm>
        <a:graphic>
          <a:graphicData uri="http://schemas.openxmlformats.org/drawingml/2006/table">
            <a:tbl>
              <a:tblPr/>
              <a:tblGrid>
                <a:gridCol w="4246560"/>
                <a:gridCol w="4244760"/>
              </a:tblGrid>
              <a:tr h="91692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Arial"/>
                        </a:rPr>
                        <a:t>OBIETTIVO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Ridurre il disagio scolast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ICATO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ratiche didattiche laboratori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826280">
                <a:tc gridSpan="2">
                  <a: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7375e"/>
                          </a:solidFill>
                          <a:latin typeface="Times New Roman"/>
                          <a:ea typeface="Times New Roman"/>
                        </a:rPr>
                        <a:t>Processi:</a:t>
                      </a: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7375e"/>
                          </a:solidFill>
                          <a:latin typeface="Times New Roman"/>
                          <a:ea typeface="Times New Roman"/>
                        </a:rPr>
                        <a:t>Formazione docenti sulle dinamiche relazionali</a:t>
                      </a: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7375e"/>
                          </a:solidFill>
                          <a:latin typeface="Times New Roman"/>
                          <a:ea typeface="Times New Roman"/>
                        </a:rPr>
                        <a:t>Flessibilità oraria (PEP)</a:t>
                      </a: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7375e"/>
                          </a:solidFill>
                          <a:latin typeface="Times New Roman"/>
                          <a:ea typeface="Times New Roman"/>
                        </a:rPr>
                        <a:t>Didattica laboratoria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4" name=""/>
          <p:cNvGraphicFramePr/>
          <p:nvPr/>
        </p:nvGraphicFramePr>
        <p:xfrm>
          <a:off x="612720" y="561960"/>
          <a:ext cx="8220240" cy="4937040"/>
        </p:xfrm>
        <a:graphic>
          <a:graphicData uri="http://schemas.openxmlformats.org/drawingml/2006/table">
            <a:tbl>
              <a:tblPr/>
              <a:tblGrid>
                <a:gridCol w="2055960"/>
                <a:gridCol w="2054160"/>
                <a:gridCol w="2054160"/>
                <a:gridCol w="2055960"/>
              </a:tblGrid>
              <a:tr h="64260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u="sng">
                          <a:solidFill>
                            <a:srgbClr val="0000ff"/>
                          </a:solidFill>
                          <a:uFillTx/>
                          <a:latin typeface="Calibri"/>
                          <a:hlinkClick r:id="rId1"/>
                        </a:rPr>
                        <a:t>DATI  OB_3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Situazione attuale </a:t>
                      </a:r>
                      <a:r>
                        <a:rPr b="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Valori di Riferimento </a:t>
                      </a:r>
                      <a:r>
                        <a:rPr b="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Risultato atteso </a:t>
                      </a:r>
                      <a:r>
                        <a:rPr b="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Risultato consegui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levato numero di alunni caratteri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umerosi eventi 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anneggiamen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leduca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levato numero di sanzioni disciplina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ifficoltà di attenzione e apprend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ocenti poco tolleranti.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04 giorni di sospens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stituzione di Commiss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ferente </a:t>
                      </a:r>
                      <a:r>
                        <a:rPr b="0" lang="it-IT" sz="1800" spc="-1" strike="noStrike" u="sng">
                          <a:solidFill>
                            <a:srgbClr val="0000ff"/>
                          </a:solidFill>
                          <a:uFillTx/>
                          <a:latin typeface="Calibri"/>
                          <a:hlinkClick r:id="rId2"/>
                        </a:rPr>
                        <a:t>B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ccordi con il servizio soci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800" spc="-1" strike="noStrike">
                          <a:solidFill>
                            <a:srgbClr val="000000"/>
                          </a:solidFill>
                          <a:latin typeface="Calibri"/>
                        </a:rPr>
                        <a:t>(a seguito di piano di miglioramento) </a:t>
                      </a:r>
                      <a:r>
                        <a:rPr b="0" i="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5" name=""/>
          <p:cNvGraphicFramePr/>
          <p:nvPr/>
        </p:nvGraphicFramePr>
        <p:xfrm>
          <a:off x="318960" y="2109960"/>
          <a:ext cx="8491680" cy="1188720"/>
        </p:xfrm>
        <a:graphic>
          <a:graphicData uri="http://schemas.openxmlformats.org/drawingml/2006/table">
            <a:tbl>
              <a:tblPr/>
              <a:tblGrid>
                <a:gridCol w="4246560"/>
                <a:gridCol w="4245120"/>
              </a:tblGrid>
              <a:tr h="119124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Arial"/>
                        </a:rPr>
                        <a:t>OBIETTIVO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Facilitare e favorire l’applicazione e l’uso delle innovazioni tecnologic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ICATO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Uso di computer e di laboratori nella didat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6" name=""/>
          <p:cNvGraphicFramePr/>
          <p:nvPr/>
        </p:nvGraphicFramePr>
        <p:xfrm>
          <a:off x="612720" y="561960"/>
          <a:ext cx="8220240" cy="4664160"/>
        </p:xfrm>
        <a:graphic>
          <a:graphicData uri="http://schemas.openxmlformats.org/drawingml/2006/table">
            <a:tbl>
              <a:tblPr/>
              <a:tblGrid>
                <a:gridCol w="2055960"/>
                <a:gridCol w="2054160"/>
                <a:gridCol w="2054160"/>
                <a:gridCol w="2055960"/>
              </a:tblGrid>
              <a:tr h="64260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u="sng">
                          <a:solidFill>
                            <a:srgbClr val="0000ff"/>
                          </a:solidFill>
                          <a:uFillTx/>
                          <a:latin typeface="Calibri"/>
                          <a:hlinkClick r:id="rId1"/>
                        </a:rPr>
                        <a:t>DATI  OB_4</a:t>
                      </a:r>
                      <a:r>
                        <a:rPr b="1" lang="it-IT" sz="1800" spc="-1" strike="noStrike">
                          <a:solidFill>
                            <a:srgbClr val="ffffff"/>
                          </a:solidFill>
                          <a:latin typeface="Calibri"/>
                        </a:rPr>
                        <a:t>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Situazione attuale </a:t>
                      </a:r>
                      <a:r>
                        <a:rPr b="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Valori di Riferimento </a:t>
                      </a:r>
                      <a:r>
                        <a:rPr b="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Risultato atteso </a:t>
                      </a:r>
                      <a:r>
                        <a:rPr b="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Risultato consegui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11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trezzature inadeguate e carent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carso utilizzo dei laborato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imitato uso delle LI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novare il processo di insegna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pprendimento con l'assunzione di metodiche laboratoriali, trasversali a tutte le discipline, attraverso l'uso dei laboratori e delle LI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800" spc="-1" strike="noStrike">
                          <a:solidFill>
                            <a:srgbClr val="000000"/>
                          </a:solidFill>
                          <a:latin typeface="Calibri"/>
                        </a:rPr>
                        <a:t>(a seguito di piano di miglioramento) </a:t>
                      </a:r>
                      <a:r>
                        <a:rPr b="0" i="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txBox="1"/>
          <p:nvPr/>
        </p:nvSpPr>
        <p:spPr>
          <a:xfrm>
            <a:off x="231840" y="1573200"/>
            <a:ext cx="8229600" cy="4525920"/>
          </a:xfrm>
          <a:prstGeom prst="rect">
            <a:avLst/>
          </a:prstGeom>
          <a:noFill/>
          <a:ln w="0">
            <a:noFill/>
          </a:ln>
        </p:spPr>
        <p:txBody>
          <a:bodyPr anchor="t">
            <a:normAutofit/>
          </a:bodyPr>
          <a:p>
            <a:pPr lvl="2" marL="822240" indent="-228600">
              <a:lnSpc>
                <a:spcPct val="80000"/>
              </a:lnSpc>
              <a:spcBef>
                <a:spcPts val="275"/>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lvl="2" marL="822240" indent="-228600">
              <a:lnSpc>
                <a:spcPct val="80000"/>
              </a:lnSpc>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22240" indent="-228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Rispetto alla media nazionale, gli studenti presentano un percorso  scolastico complessivamente regolare, ma con un tasso di abbandono superiore alla media nazionale. Per quanto riguarda il TASSO di PROMOZIONE c’è corrispondenza di valori fra il dato del nostro Istituto e la media nazionale. La PERCENTUALE degli ALUNNI ammessi all'anno successivo e licenziati all'Esame di Stato è pari al 100%.  I GIUDIZI in uscita degli alunni licenziati della scuola secondaria di I grado sono positivi e superiori alla media nazionale per le fasce di voto comprese tra 6 e 8, mentre le valutazioni tra 9 e 10 sono notevolmente inferiori. Si nota un livellamento verso il basso delle performance degli studenti e conseguente scarsa valorizzazione delle eccellenze.</a:t>
            </a:r>
            <a:endParaRPr b="0" lang="en-US" sz="2000" spc="-1" strike="noStrike">
              <a:solidFill>
                <a:srgbClr val="000000"/>
              </a:solidFill>
              <a:latin typeface="Georgia"/>
            </a:endParaRPr>
          </a:p>
        </p:txBody>
      </p:sp>
      <p:sp>
        <p:nvSpPr>
          <p:cNvPr id="886" name="Rettangolo 4"/>
          <p:cNvSpPr/>
          <p:nvPr/>
        </p:nvSpPr>
        <p:spPr>
          <a:xfrm>
            <a:off x="360000" y="182520"/>
            <a:ext cx="127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ESITI</a:t>
            </a:r>
            <a:endParaRPr b="0" lang="en-US" sz="3200" spc="-1" strike="noStrike">
              <a:solidFill>
                <a:srgbClr val="000000"/>
              </a:solidFill>
              <a:latin typeface="Arial"/>
            </a:endParaRPr>
          </a:p>
        </p:txBody>
      </p:sp>
      <p:sp>
        <p:nvSpPr>
          <p:cNvPr id="887" name="CasellaDiTesto 8"/>
          <p:cNvSpPr/>
          <p:nvPr/>
        </p:nvSpPr>
        <p:spPr>
          <a:xfrm>
            <a:off x="231840" y="682560"/>
            <a:ext cx="84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Georgia"/>
              </a:rPr>
              <a:t>Successo scolastico – Livello 3 : buono </a:t>
            </a:r>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231840" y="1573200"/>
            <a:ext cx="8229600" cy="4525920"/>
          </a:xfrm>
          <a:prstGeom prst="rect">
            <a:avLst/>
          </a:prstGeom>
          <a:noFill/>
          <a:ln w="0">
            <a:noFill/>
          </a:ln>
        </p:spPr>
        <p:txBody>
          <a:bodyPr anchor="t">
            <a:normAutofit/>
          </a:bodyPr>
          <a:p>
            <a:pPr lvl="2" marL="822240" indent="-228600">
              <a:lnSpc>
                <a:spcPct val="80000"/>
              </a:lnSpc>
              <a:spcBef>
                <a:spcPts val="4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lvl="2" marL="822240" indent="-228600">
              <a:lnSpc>
                <a:spcPct val="80000"/>
              </a:lnSpc>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Il punteggio complessivo delle prove di italiano delle classi II della scuola Primaria è superiore alla media regionale e a quella nazionale. Anche il punteggio di matematica  è superiore alla media regionale e a quella nazionale. Il punteggio delle prove d’italiano delle classi V è superiore alla media nazionale; rispetto al punteggio medio regionale il valore della scuola è in linea. Il punteggio di matematica delle classi V rispetto al punteggio medio regionale e nazionale è in linea. Il risultato della prova di Italiano delle classi I secondaria di I gr. è inferiore sia alla media regionale, che a quella nazionale, come anche il punteggio complessivo di matematica. Il punteggio complessivo delle prove di italiano delle classi III secondaria di I gr. è in linea con la media regionale e quella nazionale. Il punteggio complessivo di matematica è superiore alla media regionale e a quella nazionale. </a:t>
            </a:r>
            <a:endParaRPr b="0" lang="en-US" sz="2000" spc="-1" strike="noStrike">
              <a:solidFill>
                <a:srgbClr val="000000"/>
              </a:solidFill>
              <a:latin typeface="Georgia"/>
            </a:endParaRPr>
          </a:p>
        </p:txBody>
      </p:sp>
      <p:sp>
        <p:nvSpPr>
          <p:cNvPr id="889" name="Rettangolo 4"/>
          <p:cNvSpPr/>
          <p:nvPr/>
        </p:nvSpPr>
        <p:spPr>
          <a:xfrm>
            <a:off x="360000" y="182520"/>
            <a:ext cx="127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ESITI</a:t>
            </a:r>
            <a:endParaRPr b="0" lang="en-US" sz="3200" spc="-1" strike="noStrike">
              <a:solidFill>
                <a:srgbClr val="000000"/>
              </a:solidFill>
              <a:latin typeface="Arial"/>
            </a:endParaRPr>
          </a:p>
        </p:txBody>
      </p:sp>
      <p:sp>
        <p:nvSpPr>
          <p:cNvPr id="890" name="CasellaDiTesto 8"/>
          <p:cNvSpPr/>
          <p:nvPr/>
        </p:nvSpPr>
        <p:spPr>
          <a:xfrm>
            <a:off x="231840" y="682560"/>
            <a:ext cx="84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Georgia"/>
              </a:rPr>
              <a:t>Competenze acquisite– Livello 3 : buono </a:t>
            </a:r>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231840" y="1573200"/>
            <a:ext cx="8229600" cy="4525920"/>
          </a:xfrm>
          <a:prstGeom prst="rect">
            <a:avLst/>
          </a:prstGeom>
          <a:noFill/>
          <a:ln w="0">
            <a:noFill/>
          </a:ln>
        </p:spPr>
        <p:txBody>
          <a:bodyPr anchor="t">
            <a:normAutofit/>
          </a:bodyPr>
          <a:p>
            <a:pPr lvl="2" marL="822240" indent="-228600">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Non sempre c'è coerenza tra i risultati conseguiti dalle singole classi alle prove INVALSI e l'andamento scolastico di quelle stesse classi. Confrontando la variabilità dei risultati delle prove (di matematica e italiano) tra le classi della scuola con quella del campione nazionale, e con classi con lo stesso indice ESCS (con pari condizioni socio-economiche), si rileva un basso tasso di omogeneità e di equilibrio. La disparità di livello di rendimento sono concentrate in alcune classi. Le scelte didattiche dovrebbero consentire una maggiore preparazione degli alunni in vista dei test delle prove INVALSI.</a:t>
            </a: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892" name="Rettangolo 4"/>
          <p:cNvSpPr/>
          <p:nvPr/>
        </p:nvSpPr>
        <p:spPr>
          <a:xfrm>
            <a:off x="360000" y="182520"/>
            <a:ext cx="127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ESITI</a:t>
            </a:r>
            <a:endParaRPr b="0" lang="en-US" sz="3200" spc="-1" strike="noStrike">
              <a:solidFill>
                <a:srgbClr val="000000"/>
              </a:solidFill>
              <a:latin typeface="Arial"/>
            </a:endParaRPr>
          </a:p>
        </p:txBody>
      </p:sp>
      <p:sp>
        <p:nvSpPr>
          <p:cNvPr id="893" name="CasellaDiTesto 8"/>
          <p:cNvSpPr/>
          <p:nvPr/>
        </p:nvSpPr>
        <p:spPr>
          <a:xfrm>
            <a:off x="231840" y="682560"/>
            <a:ext cx="84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Georgia"/>
              </a:rPr>
              <a:t>Equità degli esiti– Livello 2: accettabile</a:t>
            </a:r>
            <a:endParaRPr b="0" lang="en-US" sz="18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682560" y="1573200"/>
            <a:ext cx="8229600" cy="1548000"/>
          </a:xfrm>
          <a:prstGeom prst="rect">
            <a:avLst/>
          </a:prstGeom>
          <a:noFill/>
          <a:ln w="0">
            <a:noFill/>
          </a:ln>
        </p:spPr>
        <p:txBody>
          <a:bodyPr anchor="t">
            <a:normAutofit/>
          </a:bodyPr>
          <a:p>
            <a:pPr lvl="2" marL="822240" indent="-228600">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La totalità degli alunni promossi all'Esame di Stato </a:t>
            </a: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prosegue il percorso di studio nei vari Istituti dislocati sul territorio.</a:t>
            </a: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895" name="Rettangolo 4"/>
          <p:cNvSpPr/>
          <p:nvPr/>
        </p:nvSpPr>
        <p:spPr>
          <a:xfrm>
            <a:off x="360000" y="182520"/>
            <a:ext cx="127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ESITI</a:t>
            </a:r>
            <a:endParaRPr b="0" lang="en-US" sz="3200" spc="-1" strike="noStrike">
              <a:solidFill>
                <a:srgbClr val="000000"/>
              </a:solidFill>
              <a:latin typeface="Arial"/>
            </a:endParaRPr>
          </a:p>
        </p:txBody>
      </p:sp>
      <p:sp>
        <p:nvSpPr>
          <p:cNvPr id="896" name="CasellaDiTesto 8"/>
          <p:cNvSpPr/>
          <p:nvPr/>
        </p:nvSpPr>
        <p:spPr>
          <a:xfrm>
            <a:off x="231840" y="682560"/>
            <a:ext cx="84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Georgia"/>
              </a:rPr>
              <a:t>Risultati a distanza– Livello 4: eccellente</a:t>
            </a:r>
            <a:endParaRPr b="0" lang="en-US" sz="18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txBox="1"/>
          <p:nvPr/>
        </p:nvSpPr>
        <p:spPr>
          <a:xfrm>
            <a:off x="414360" y="1572840"/>
            <a:ext cx="8229600" cy="4157640"/>
          </a:xfrm>
          <a:prstGeom prst="rect">
            <a:avLst/>
          </a:prstGeom>
          <a:noFill/>
          <a:ln w="0">
            <a:noFill/>
          </a:ln>
        </p:spPr>
        <p:txBody>
          <a:bodyPr anchor="t">
            <a:normAutofit/>
          </a:bodyPr>
          <a:p>
            <a:pPr marL="272880" indent="-2728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L’Istituto comprensivo “N. Fiorentino” di Montalbano Jonico raccoglie l’utenza del Comune, il cui territorio occupa una superficie di Kmq 133,400 e si estende su una collina che degrada verso il mar Jonio, da cui dista circa 15 Km. La struttura economica del paese ha registrato una regressione sul piano dell’attività agricola a seguito dei processi di globalizzazione del settore economico che ha causato un forte indebolimento dei prodotti locali. La scuola è di notevoli dimensioni, avendo un numero di alunni superiore a 700 con una considerevole percentuale di alunni stranieri. Il numero medio di alunni nelle sezioni è di 23,6, per la Primaria la media è di 21 e di 22,8 nella scuola Secondaria di I grado.</a:t>
            </a:r>
            <a:endParaRPr b="0" lang="en-US" sz="2000" spc="-1" strike="noStrike">
              <a:solidFill>
                <a:srgbClr val="000000"/>
              </a:solidFill>
              <a:latin typeface="Georgia"/>
            </a:endParaRPr>
          </a:p>
          <a:p>
            <a:pPr marL="272880" indent="-2728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898" name="Rettangolo 4"/>
          <p:cNvSpPr/>
          <p:nvPr/>
        </p:nvSpPr>
        <p:spPr>
          <a:xfrm>
            <a:off x="504360" y="182520"/>
            <a:ext cx="472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CONTESTO E RISORSE</a:t>
            </a:r>
            <a:endParaRPr b="0" lang="en-US" sz="3200" spc="-1" strike="noStrike">
              <a:solidFill>
                <a:srgbClr val="000000"/>
              </a:solidFill>
              <a:latin typeface="Arial"/>
            </a:endParaRPr>
          </a:p>
        </p:txBody>
      </p:sp>
      <p:sp>
        <p:nvSpPr>
          <p:cNvPr id="899" name="CasellaDiTesto 8"/>
          <p:cNvSpPr/>
          <p:nvPr/>
        </p:nvSpPr>
        <p:spPr>
          <a:xfrm>
            <a:off x="231840" y="682560"/>
            <a:ext cx="84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Georgia"/>
              </a:rPr>
              <a:t>Ambiente</a:t>
            </a:r>
            <a:endParaRPr b="0" lang="en-US" sz="18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414360" y="1572840"/>
            <a:ext cx="8229600" cy="4157640"/>
          </a:xfrm>
          <a:prstGeom prst="rect">
            <a:avLst/>
          </a:prstGeom>
          <a:noFill/>
          <a:ln w="0">
            <a:noFill/>
          </a:ln>
        </p:spPr>
        <p:txBody>
          <a:bodyPr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543"/>
                </a:solidFill>
                <a:latin typeface="Times New Roman"/>
                <a:ea typeface="Times New Roman"/>
              </a:rPr>
              <a:t>    </a:t>
            </a:r>
            <a:r>
              <a:rPr b="1" lang="it-IT" sz="2000" spc="-1" strike="noStrike">
                <a:solidFill>
                  <a:srgbClr val="323543"/>
                </a:solidFill>
                <a:latin typeface="Times New Roman"/>
                <a:ea typeface="Times New Roman"/>
              </a:rPr>
              <a:t>Si rileva la presenza di numerose associazioni socio-culturali e di volontariato, segnali di solidarietà attiva, finalizzata al miglioramento della qualità della vita della popolazione. Sul territorio operano servizi sanitari della A.S.M. e sevizi sociali del Comune; strutture e società sportive; associazioni socio-culturali: PROLOCO, A.C.L.I, ASSOCIAZIONE CULTURALE PADRE MARIO FRIZZERA, ACCADEMIA DELLA MUSICA E DEL SUONO, LEGAMBIENTE, TERRA DEI CALANCHI; Associazioni di volontariato, AVIS – ADVOS – ADMO - AIDO, C.R.I., CARITAS. Si registra la carenza di istituzioni operanti per l'integrazione degli alunni stranieri.</a:t>
            </a:r>
            <a:endParaRPr b="0" lang="en-US" sz="2000" spc="-1" strike="noStrike">
              <a:solidFill>
                <a:srgbClr val="000000"/>
              </a:solidFill>
              <a:latin typeface="Georgia"/>
            </a:endParaRPr>
          </a:p>
          <a:p>
            <a:pPr marL="272880" indent="-2728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01" name="Rettangolo 4"/>
          <p:cNvSpPr/>
          <p:nvPr/>
        </p:nvSpPr>
        <p:spPr>
          <a:xfrm>
            <a:off x="504360" y="182520"/>
            <a:ext cx="472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546d7a"/>
                </a:solidFill>
                <a:latin typeface="Georgia"/>
              </a:rPr>
              <a:t>CONTESTO E RISORSE</a:t>
            </a:r>
            <a:endParaRPr b="0" lang="en-US" sz="3200" spc="-1" strike="noStrike">
              <a:solidFill>
                <a:srgbClr val="000000"/>
              </a:solidFill>
              <a:latin typeface="Arial"/>
            </a:endParaRPr>
          </a:p>
        </p:txBody>
      </p:sp>
      <p:sp>
        <p:nvSpPr>
          <p:cNvPr id="902" name="CasellaDiTesto 8"/>
          <p:cNvSpPr/>
          <p:nvPr/>
        </p:nvSpPr>
        <p:spPr>
          <a:xfrm>
            <a:off x="231840" y="682560"/>
            <a:ext cx="84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Georgia"/>
              </a:rPr>
              <a:t>Capitale sociale</a:t>
            </a:r>
            <a:endParaRPr b="0" lang="en-US" sz="18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5:10:41Z</dcterms:created>
  <dc:creator>Giuseppe Mattiussi</dc:creator>
  <dc:description/>
  <dc:language>en-US</dc:language>
  <cp:lastModifiedBy>.</cp:lastModifiedBy>
  <dcterms:modified xsi:type="dcterms:W3CDTF">2015-02-11T09:12:22Z</dcterms:modified>
  <cp:revision>84</cp:revision>
  <dc:subject/>
  <dc:title>Presentazione di PowerPoint</dc:title>
</cp:coreProperties>
</file>