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414-3C2C-40D1-8A93-655FCD23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017-D6AD-49C5-8C2E-720A58BB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EC7-5955-445B-9013-D7752445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D5B-6575-4981-9435-B07BCD22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00D-2B0C-41E8-AFB6-79223D97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617-FD89-4A42-8BE6-E112C27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40E-3FB2-4FDC-9D37-0E63152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46D-212E-4FBA-A874-A4AC0FB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6A1-AB2C-4DFE-923F-C4DBED4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74C-5F13-463B-90EF-1373A81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BE9-0F83-4E3E-B469-6796F1F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A2C-D119-427F-A7CC-529F775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074-3A01-4E8F-B7D9-54E6FC2F355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ATI   PROVE INVALS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TUD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.s. 2011/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http://www.icfiorentinomontalbano.it/index.php/30-bilancio-sociale/135-dati-invalsi-stud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0:51:05Z</dcterms:created>
  <dc:creator>.</dc:creator>
  <dc:description/>
  <dc:language>en-US</dc:language>
  <cp:lastModifiedBy>.</cp:lastModifiedBy>
  <dcterms:modified xsi:type="dcterms:W3CDTF">2015-02-12T22:33:16Z</dcterms:modified>
  <cp:revision>3</cp:revision>
  <dc:subject/>
  <dc:title>Diapositiva 1</dc:title>
</cp:coreProperties>
</file>